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9.gif" ContentType="image/gif"/>
  <Override PartName="/ppt/media/image21.jpeg" ContentType="image/jpeg"/>
  <Override PartName="/ppt/media/image19.png" ContentType="image/png"/>
  <Override PartName="/ppt/media/image17.wmf" ContentType="image/x-wmf"/>
  <Override PartName="/ppt/media/image27.jpeg" ContentType="image/jpeg"/>
  <Override PartName="/ppt/media/image30.wmf" ContentType="image/x-wmf"/>
  <Override PartName="/ppt/media/image6.jpeg" ContentType="image/jpeg"/>
  <Override PartName="/ppt/media/image18.png" ContentType="image/png"/>
  <Override PartName="/ppt/media/image20.png" ContentType="image/png"/>
  <Override PartName="/ppt/media/image10.jpeg" ContentType="image/jpeg"/>
  <Override PartName="/ppt/media/image8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2.jpeg" ContentType="image/jpeg"/>
  <Override PartName="/ppt/media/image34.wmf" ContentType="image/x-wmf"/>
  <Override PartName="/ppt/media/image4.jpeg" ContentType="image/jpeg"/>
  <Override PartName="/ppt/media/image2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7.jpeg" ContentType="image/jpeg"/>
  <Override PartName="/ppt/media/image1.wmf" ContentType="image/x-wmf"/>
  <Override PartName="/ppt/media/image15.wmf" ContentType="image/x-wmf"/>
  <Override PartName="/ppt/media/image22.jpeg" ContentType="image/jpeg"/>
  <Override PartName="/ppt/media/image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B251-E638-4847-A2EF-E61B4C7A4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11FA-17E8-4BEC-8509-149A436198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5D6D-8ED5-4D6C-A9FC-6BE1710C48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652-74CD-4409-AC83-21038FA269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CE2E-7FBB-4D55-B7CD-1114B882FC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81D8-FF4D-44C8-8646-79BBD9A18A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A9D2-25E7-4E9C-9523-A52EF4509E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8411-2FBF-4386-B310-72F85869EF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D54F-C345-4660-92C9-A39B41E01E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68C-9138-41E8-A89C-78C3E693E5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7EBE-A34D-49F7-B699-753E463274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913F-065E-43E0-A87E-5155659897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2A29-0259-432C-A539-1195A7FC02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D817-A032-417D-BBDC-68BEDA70E5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F3EC-3880-4B5E-AB05-2DB2FF0883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F3C7-589B-4CC6-B4CB-ABAF89BAB2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C9F1-FA10-4FFA-97B7-05166EE3E8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42E7-CE6E-44C1-A25A-D473608FF2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DB95-9451-47B8-9929-5738AAF07A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7D5-AA9D-474E-91E4-71A845694A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227A-02B3-4A1A-A098-EC42310144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DF2A-DEFB-4F4C-B7F0-EF00CC1F89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7943-CFAB-4A4E-B0AB-43B6EBBCB3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509D-47C0-4E38-80E8-BA1E334A7F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94E2-FA65-4BDC-91BB-988E261B04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9624-BC5C-43F3-842B-E33A3178C3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BADC-600F-4B68-B756-A6B95F8083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7E14-6269-446C-857A-D956BB93AC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2BC7-23A7-4938-85D7-6EF3606E4D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2958-B72E-4614-A87B-9B7C0C3285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AE69-B6CA-4ADE-B6F4-CB7A1CA404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90ED-8232-4B76-82A2-E83B8DDB40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EFF9-A040-43A1-9C99-6E0F55A11C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0133-00D6-449B-A19F-9EDE9DAB80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43CA-F61D-4754-B5AC-F8AA80F772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B0FE-DDC3-428C-BB6B-9B275E3F7D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A5CB-1DED-409F-800E-C8AD3F007A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AB2A-82BC-4A61-9D37-A634F6EA8A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768C-3ABA-41CF-834B-573DECD4A0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F2A4-549A-404D-B590-5B0ECB4384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11D5-53C2-4E18-9A7D-79DB90F139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B316-A8C2-410E-8E68-B68AE5D2F8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3006-FC32-4864-A887-82B17A7990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20A4-C03B-4101-B179-B1C3AC24A5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AABD-3A12-45A5-BBAE-6859E7988E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EF89-16D3-4BEE-B013-F3BB6BC476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93A-FCD6-422B-B60B-FDDD0CFA83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0AEC-2089-4D2C-B803-74D7DC1FEB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B62B-F9FB-411C-B0DA-A69126D6E2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E0E7-1C0E-42E9-A397-BF4570A9AE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53B1-43AB-47C1-BF1B-510DC98F1F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8651-E7F6-4307-9405-225637C8B3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7757-759A-41FE-9C57-D19D7A0B9D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BBE-C37E-4BB9-914B-037D25B035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35F4-582E-454A-B7E6-EB59E3775A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214E-65EB-455E-B755-470AE3235B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7BE4-BD3B-4051-B9AC-3B7BCB839A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D5C8-A578-4E2C-B492-C448CBA9DA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1255-C8F7-4AB6-822F-72D00D16DB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7493-4F6A-4BCF-B720-B0B0A2EE15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E1C-2189-48D4-BB62-FB1C89AE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7DC-69A2-430B-AA38-13969BFA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613-7132-4A12-8A6B-009E492A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516-668E-4984-9E42-48B834BC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4CD9-EA97-49EC-A7A2-294B7D60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73A1-4153-46C8-96F6-E11095EC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0F91-DA2E-4DDC-A96B-BC071857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DF7B-4A52-43D7-B986-6753153E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C8F0-4FBE-42BF-A403-1DC3258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CE50-632C-4EC2-9CB3-17760926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1B59-73E4-42A8-97F0-EEE4AB88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D97-CF98-41FC-8984-23B2758C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AFCD-7989-4B5E-8258-E218E99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BD29-AB08-439E-9343-F3EC74D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7101-C6CB-43CA-994B-34FF7E45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0A45-A39C-46CA-9049-82E08243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CA2B-B7D4-4A0F-BBB3-6247AD62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B66C-97B0-425F-9504-85AB6064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3E89-761A-4E65-9B6B-84766877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CA3E-8A68-4198-8E70-AFBC016E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9671-1EB0-45AA-97D3-5AC8D4D3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3E01-C3F0-44B4-897E-DD3D44BB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A97-DE2E-4EF2-82A4-DB5676CB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83E2-64E1-4C88-A6D0-39B29209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6979-21F8-41B3-8C7C-F490C6F0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844B-4AD9-40C6-BD3F-415C6168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93221-3035-4361-957C-8E1DDD85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AD424-7C24-4B6F-94F9-E9C0AD5D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22F2-8243-4F25-9C3F-2FCCA5D1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3AB2-46BA-4DD5-B8F4-2FBE4987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9B8-A16F-4F2B-ABDC-F9ECB616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25E-D740-4E1A-9173-59DFFFF5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573-C06B-4DBC-83CB-75F44DC3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5C0-F902-45DF-B362-3C019DE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B46-3122-47EE-B5A6-F12975CD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B2E-4753-4B8B-A834-8215A569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9413-1337-4198-8289-B78B00A59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1" name="Picture 54" descr="j0233965[1]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238880" y="5715000"/>
            <a:ext cx="190512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E2F3-D9D4-4F29-BA50-501221747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1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9A5-29B4-4D3F-93D2-991F8F96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udoun.k12.va.us/libraries/book_parts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oudoun.k12.va.us/libraries/book_parts.gif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3.wmf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" Target="slide2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jpe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E11D14A.WAV" descr=""/>
          <p:cNvPicPr/>
          <p:nvPr/>
        </p:nvPicPr>
        <p:blipFill>
          <a:blip r:embed="rId1"/>
          <a:stretch/>
        </p:blipFill>
        <p:spPr>
          <a:xfrm>
            <a:off x="44197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>
            <a:hlinkClick r:id="" action="ppaction://hlinkshowjump?jump=nextslide"/>
          </p:cNvPr>
          <p:cNvSpPr/>
          <p:nvPr/>
        </p:nvSpPr>
        <p:spPr>
          <a:xfrm>
            <a:off x="4038480" y="556272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8295" y="3794"/>
                </a:moveTo>
                <a:lnTo>
                  <a:pt x="22308" y="10800"/>
                </a:lnTo>
                <a:lnTo>
                  <a:pt x="829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6477120" cy="19810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Comic Sans MS"/>
              </a:rPr>
              <a:t>Learn the Library!</a:t>
            </a:r>
            <a:br>
              <a:rPr sz="66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523880" y="4038480"/>
            <a:ext cx="603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ver of a book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ver is the outside of a book.  There is usually a front cover,  a back cover, and the part in between them called the sp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21391CAC.WAV" descr=""/>
          <p:cNvPicPr/>
          <p:nvPr/>
        </p:nvPicPr>
        <p:blipFill>
          <a:blip r:embed="rId1"/>
          <a:stretch/>
        </p:blipFill>
        <p:spPr>
          <a:xfrm>
            <a:off x="6343560" y="2552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A7748ABF.WAV" descr=""/>
          <p:cNvPicPr/>
          <p:nvPr/>
        </p:nvPicPr>
        <p:blipFill>
          <a:blip r:embed="rId2"/>
          <a:stretch/>
        </p:blipFill>
        <p:spPr>
          <a:xfrm>
            <a:off x="41911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book_par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2057400"/>
            <a:ext cx="3105360" cy="33526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6">
            <a:hlinkClick r:id="" action="ppaction://hlinkshowjump?jump=nextslide"/>
          </p:cNvPr>
          <p:cNvSpPr/>
          <p:nvPr/>
        </p:nvSpPr>
        <p:spPr>
          <a:xfrm>
            <a:off x="3809880" y="55627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23204" y="10800"/>
                </a:lnTo>
                <a:lnTo>
                  <a:pt x="919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944320" y="2708280"/>
            <a:ext cx="81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5410080" y="29718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5965920" y="198108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re</a:t>
            </a:r>
            <a:r>
              <a:rPr b="0" lang="ja-JP" sz="4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 the cover of some picture books that are very popul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5" descr="olivia"/>
          <p:cNvPicPr/>
          <p:nvPr/>
        </p:nvPicPr>
        <p:blipFill>
          <a:blip r:embed="rId1"/>
          <a:stretch/>
        </p:blipFill>
        <p:spPr>
          <a:xfrm>
            <a:off x="1536840" y="2286000"/>
            <a:ext cx="2070000" cy="2743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>
            <a:hlinkClick r:id="" action="ppaction://hlinkshowjump?jump=nextslide"/>
          </p:cNvPr>
          <p:cNvSpPr/>
          <p:nvPr/>
        </p:nvSpPr>
        <p:spPr>
          <a:xfrm>
            <a:off x="3124080" y="5715000"/>
            <a:ext cx="2109960" cy="1143000"/>
          </a:xfrm>
          <a:custGeom>
            <a:avLst/>
            <a:gdLst>
              <a:gd name="textAreaLeft" fmla="*/ 73800 w 2109960"/>
              <a:gd name="textAreaRight" fmla="*/ 2036160 w 2109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9868" h="21600">
                <a:moveTo>
                  <a:pt x="0" y="0"/>
                </a:moveTo>
                <a:lnTo>
                  <a:pt x="39868" y="0"/>
                </a:lnTo>
                <a:lnTo>
                  <a:pt x="39868" y="21600"/>
                </a:lnTo>
                <a:lnTo>
                  <a:pt x="0" y="21600"/>
                </a:lnTo>
                <a:close/>
              </a:path>
              <a:path fill="lightenLess" w="39868" h="21600">
                <a:moveTo>
                  <a:pt x="0" y="0"/>
                </a:moveTo>
                <a:lnTo>
                  <a:pt x="39868" y="0"/>
                </a:lnTo>
                <a:lnTo>
                  <a:pt x="38468" y="1400"/>
                </a:lnTo>
                <a:lnTo>
                  <a:pt x="1400" y="1400"/>
                </a:lnTo>
                <a:close/>
              </a:path>
              <a:path fill="darken" w="39868" h="21600">
                <a:moveTo>
                  <a:pt x="39868" y="0"/>
                </a:moveTo>
                <a:lnTo>
                  <a:pt x="39868" y="21600"/>
                </a:lnTo>
                <a:lnTo>
                  <a:pt x="38468" y="20200"/>
                </a:lnTo>
                <a:lnTo>
                  <a:pt x="38468" y="1400"/>
                </a:lnTo>
                <a:close/>
              </a:path>
              <a:path fill="darkenLess" w="39868" h="21600">
                <a:moveTo>
                  <a:pt x="39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68" y="20200"/>
                </a:lnTo>
                <a:close/>
              </a:path>
              <a:path fill="lighten" w="39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68" h="21600">
                <a:moveTo>
                  <a:pt x="12927" y="3794"/>
                </a:moveTo>
                <a:lnTo>
                  <a:pt x="26940" y="10800"/>
                </a:lnTo>
                <a:lnTo>
                  <a:pt x="129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10" descr="043935806X"/>
          <p:cNvPicPr/>
          <p:nvPr/>
        </p:nvPicPr>
        <p:blipFill>
          <a:blip r:embed="rId2"/>
          <a:stretch/>
        </p:blipFill>
        <p:spPr>
          <a:xfrm>
            <a:off x="5029200" y="2286000"/>
            <a:ext cx="1814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part is the cove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ver is inside the bo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ver is the outside of the bo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ver is in the back of the bo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ver is the wrapping on the book at the s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10">
            <a:hlinkClick r:id="rId1" action="ppaction://hlinksldjump"/>
          </p:cNvPr>
          <p:cNvSpPr/>
          <p:nvPr/>
        </p:nvSpPr>
        <p:spPr>
          <a:xfrm>
            <a:off x="1066680" y="1905120"/>
            <a:ext cx="2895840" cy="457200"/>
          </a:xfrm>
          <a:custGeom>
            <a:avLst/>
            <a:gdLst>
              <a:gd name="textAreaLeft" fmla="*/ 29520 w 2895840"/>
              <a:gd name="textAreaRight" fmla="*/ 2866320 w 2895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6721" h="21600">
                <a:moveTo>
                  <a:pt x="0" y="0"/>
                </a:moveTo>
                <a:lnTo>
                  <a:pt x="136721" y="0"/>
                </a:lnTo>
                <a:lnTo>
                  <a:pt x="136721" y="21600"/>
                </a:lnTo>
                <a:lnTo>
                  <a:pt x="0" y="21600"/>
                </a:lnTo>
                <a:close/>
              </a:path>
              <a:path fill="lightenLess" w="136721" h="21600">
                <a:moveTo>
                  <a:pt x="0" y="0"/>
                </a:moveTo>
                <a:lnTo>
                  <a:pt x="136721" y="0"/>
                </a:lnTo>
                <a:lnTo>
                  <a:pt x="135321" y="1400"/>
                </a:lnTo>
                <a:lnTo>
                  <a:pt x="1400" y="1400"/>
                </a:lnTo>
                <a:close/>
              </a:path>
              <a:path fill="darken" w="136721" h="21600">
                <a:moveTo>
                  <a:pt x="136721" y="0"/>
                </a:moveTo>
                <a:lnTo>
                  <a:pt x="136721" y="21600"/>
                </a:lnTo>
                <a:lnTo>
                  <a:pt x="135321" y="20200"/>
                </a:lnTo>
                <a:lnTo>
                  <a:pt x="135321" y="1400"/>
                </a:lnTo>
                <a:close/>
              </a:path>
              <a:path fill="darkenLess" w="136721" h="21600">
                <a:moveTo>
                  <a:pt x="13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21" y="20200"/>
                </a:lnTo>
                <a:close/>
              </a:path>
              <a:path fill="lighten" w="13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AutoShape 11">
            <a:hlinkClick r:id="rId2" action="ppaction://hlinksldjump"/>
          </p:cNvPr>
          <p:cNvSpPr/>
          <p:nvPr/>
        </p:nvSpPr>
        <p:spPr>
          <a:xfrm>
            <a:off x="1143000" y="2819520"/>
            <a:ext cx="2895480" cy="457200"/>
          </a:xfrm>
          <a:custGeom>
            <a:avLst/>
            <a:gdLst>
              <a:gd name="textAreaLeft" fmla="*/ 29520 w 2895480"/>
              <a:gd name="textAreaRight" fmla="*/ 2865960 w 2895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6704" h="21600">
                <a:moveTo>
                  <a:pt x="0" y="0"/>
                </a:moveTo>
                <a:lnTo>
                  <a:pt x="136704" y="0"/>
                </a:lnTo>
                <a:lnTo>
                  <a:pt x="136704" y="21600"/>
                </a:lnTo>
                <a:lnTo>
                  <a:pt x="0" y="21600"/>
                </a:lnTo>
                <a:close/>
              </a:path>
              <a:path fill="lightenLess" w="136704" h="21600">
                <a:moveTo>
                  <a:pt x="0" y="0"/>
                </a:moveTo>
                <a:lnTo>
                  <a:pt x="136704" y="0"/>
                </a:lnTo>
                <a:lnTo>
                  <a:pt x="135304" y="1400"/>
                </a:lnTo>
                <a:lnTo>
                  <a:pt x="1400" y="1400"/>
                </a:lnTo>
                <a:close/>
              </a:path>
              <a:path fill="darken" w="136704" h="21600">
                <a:moveTo>
                  <a:pt x="136704" y="0"/>
                </a:moveTo>
                <a:lnTo>
                  <a:pt x="136704" y="21600"/>
                </a:lnTo>
                <a:lnTo>
                  <a:pt x="135304" y="20200"/>
                </a:lnTo>
                <a:lnTo>
                  <a:pt x="135304" y="1400"/>
                </a:lnTo>
                <a:close/>
              </a:path>
              <a:path fill="darkenLess" w="136704" h="21600">
                <a:moveTo>
                  <a:pt x="1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04" y="20200"/>
                </a:lnTo>
                <a:close/>
              </a:path>
              <a:path fill="lighten" w="1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AutoShape 12">
            <a:hlinkClick r:id="rId3" action="ppaction://hlinksldjump"/>
          </p:cNvPr>
          <p:cNvSpPr/>
          <p:nvPr/>
        </p:nvSpPr>
        <p:spPr>
          <a:xfrm>
            <a:off x="1066680" y="3657600"/>
            <a:ext cx="3048120" cy="533520"/>
          </a:xfrm>
          <a:custGeom>
            <a:avLst/>
            <a:gdLst>
              <a:gd name="textAreaLeft" fmla="*/ 34560 w 3048120"/>
              <a:gd name="textAreaRight" fmla="*/ 3013560 w 3048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3337" h="21600">
                <a:moveTo>
                  <a:pt x="0" y="0"/>
                </a:moveTo>
                <a:lnTo>
                  <a:pt x="123337" y="0"/>
                </a:lnTo>
                <a:lnTo>
                  <a:pt x="123337" y="21600"/>
                </a:lnTo>
                <a:lnTo>
                  <a:pt x="0" y="21600"/>
                </a:lnTo>
                <a:close/>
              </a:path>
              <a:path fill="lightenLess" w="123337" h="21600">
                <a:moveTo>
                  <a:pt x="0" y="0"/>
                </a:moveTo>
                <a:lnTo>
                  <a:pt x="123337" y="0"/>
                </a:lnTo>
                <a:lnTo>
                  <a:pt x="121937" y="1400"/>
                </a:lnTo>
                <a:lnTo>
                  <a:pt x="1400" y="1400"/>
                </a:lnTo>
                <a:close/>
              </a:path>
              <a:path fill="darken" w="123337" h="21600">
                <a:moveTo>
                  <a:pt x="123337" y="0"/>
                </a:moveTo>
                <a:lnTo>
                  <a:pt x="123337" y="21600"/>
                </a:lnTo>
                <a:lnTo>
                  <a:pt x="121937" y="20200"/>
                </a:lnTo>
                <a:lnTo>
                  <a:pt x="121937" y="1400"/>
                </a:lnTo>
                <a:close/>
              </a:path>
              <a:path fill="darkenLess" w="123337" h="21600">
                <a:moveTo>
                  <a:pt x="123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937" y="20200"/>
                </a:lnTo>
                <a:close/>
              </a:path>
              <a:path fill="lighten" w="123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AutoShape 13">
            <a:hlinkClick r:id="rId4" action="ppaction://hlinksldjump"/>
          </p:cNvPr>
          <p:cNvSpPr/>
          <p:nvPr/>
        </p:nvSpPr>
        <p:spPr>
          <a:xfrm>
            <a:off x="1143000" y="4648320"/>
            <a:ext cx="2819520" cy="457200"/>
          </a:xfrm>
          <a:custGeom>
            <a:avLst/>
            <a:gdLst>
              <a:gd name="textAreaLeft" fmla="*/ 29520 w 2819520"/>
              <a:gd name="textAreaRight" fmla="*/ 2790000 w 2819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3118" h="21600">
                <a:moveTo>
                  <a:pt x="0" y="0"/>
                </a:moveTo>
                <a:lnTo>
                  <a:pt x="133118" y="0"/>
                </a:lnTo>
                <a:lnTo>
                  <a:pt x="133118" y="21600"/>
                </a:lnTo>
                <a:lnTo>
                  <a:pt x="0" y="21600"/>
                </a:lnTo>
                <a:close/>
              </a:path>
              <a:path fill="lightenLess" w="133118" h="21600">
                <a:moveTo>
                  <a:pt x="0" y="0"/>
                </a:moveTo>
                <a:lnTo>
                  <a:pt x="133118" y="0"/>
                </a:lnTo>
                <a:lnTo>
                  <a:pt x="131718" y="1400"/>
                </a:lnTo>
                <a:lnTo>
                  <a:pt x="1400" y="1400"/>
                </a:lnTo>
                <a:close/>
              </a:path>
              <a:path fill="darken" w="133118" h="21600">
                <a:moveTo>
                  <a:pt x="133118" y="0"/>
                </a:moveTo>
                <a:lnTo>
                  <a:pt x="133118" y="21600"/>
                </a:lnTo>
                <a:lnTo>
                  <a:pt x="131718" y="20200"/>
                </a:lnTo>
                <a:lnTo>
                  <a:pt x="131718" y="1400"/>
                </a:lnTo>
                <a:close/>
              </a:path>
              <a:path fill="darkenLess" w="133118" h="21600">
                <a:moveTo>
                  <a:pt x="133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18" y="20200"/>
                </a:lnTo>
                <a:close/>
              </a:path>
              <a:path fill="lighten" w="133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5181480" y="2133720"/>
          <a:ext cx="242892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2133720"/>
                    <a:ext cx="2428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Picture 15" descr="j0216986[1]"/>
          <p:cNvPicPr/>
          <p:nvPr/>
        </p:nvPicPr>
        <p:blipFill>
          <a:blip r:embed="rId7"/>
          <a:stretch/>
        </p:blipFill>
        <p:spPr>
          <a:xfrm>
            <a:off x="5105520" y="2133720"/>
            <a:ext cx="1981080" cy="297180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6">
            <a:hlinkClick r:id="" action="ppaction://hlinkshowjump?jump=nextslide"/>
          </p:cNvPr>
          <p:cNvSpPr/>
          <p:nvPr/>
        </p:nvSpPr>
        <p:spPr>
          <a:xfrm>
            <a:off x="3962520" y="5562720"/>
            <a:ext cx="1500120" cy="914400"/>
          </a:xfrm>
          <a:custGeom>
            <a:avLst/>
            <a:gdLst>
              <a:gd name="textAreaLeft" fmla="*/ 59040 w 1500120"/>
              <a:gd name="textAreaRight" fmla="*/ 1441080 w 1500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5430" h="21600">
                <a:moveTo>
                  <a:pt x="0" y="0"/>
                </a:moveTo>
                <a:lnTo>
                  <a:pt x="35430" y="0"/>
                </a:lnTo>
                <a:lnTo>
                  <a:pt x="35430" y="21600"/>
                </a:lnTo>
                <a:lnTo>
                  <a:pt x="0" y="21600"/>
                </a:lnTo>
                <a:close/>
              </a:path>
              <a:path fill="lightenLess" w="35430" h="21600">
                <a:moveTo>
                  <a:pt x="0" y="0"/>
                </a:moveTo>
                <a:lnTo>
                  <a:pt x="35430" y="0"/>
                </a:lnTo>
                <a:lnTo>
                  <a:pt x="34030" y="1400"/>
                </a:lnTo>
                <a:lnTo>
                  <a:pt x="1400" y="1400"/>
                </a:lnTo>
                <a:close/>
              </a:path>
              <a:path fill="darken" w="35430" h="21600">
                <a:moveTo>
                  <a:pt x="35430" y="0"/>
                </a:moveTo>
                <a:lnTo>
                  <a:pt x="35430" y="21600"/>
                </a:lnTo>
                <a:lnTo>
                  <a:pt x="34030" y="20200"/>
                </a:lnTo>
                <a:lnTo>
                  <a:pt x="34030" y="1400"/>
                </a:lnTo>
                <a:close/>
              </a:path>
              <a:path fill="darkenLess" w="35430" h="21600">
                <a:moveTo>
                  <a:pt x="35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30" y="20200"/>
                </a:lnTo>
                <a:close/>
              </a:path>
              <a:path fill="lighten" w="35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30" h="21600">
                <a:moveTo>
                  <a:pt x="10709" y="3794"/>
                </a:moveTo>
                <a:lnTo>
                  <a:pt x="24722" y="10800"/>
                </a:lnTo>
                <a:lnTo>
                  <a:pt x="1070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OPS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 this again . . 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ver is the outside of a book.  There is usually a front cover,  a back cover, and the part in between them called the sp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21391CAC.WAV" descr=""/>
          <p:cNvPicPr/>
          <p:nvPr/>
        </p:nvPicPr>
        <p:blipFill>
          <a:blip r:embed="rId1"/>
          <a:stretch/>
        </p:blipFill>
        <p:spPr>
          <a:xfrm>
            <a:off x="6343560" y="2552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book_par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057400"/>
            <a:ext cx="3105000" cy="335268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11">
            <a:hlinkClick r:id="" action="ppaction://hlinkshowjump?jump=previousslide"/>
          </p:cNvPr>
          <p:cNvSpPr/>
          <p:nvPr/>
        </p:nvSpPr>
        <p:spPr>
          <a:xfrm>
            <a:off x="4114800" y="55627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11" h="21600">
                <a:moveTo>
                  <a:pt x="11649" y="10800"/>
                </a:moveTo>
                <a:lnTo>
                  <a:pt x="25662" y="3794"/>
                </a:lnTo>
                <a:lnTo>
                  <a:pt x="2566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039360" y="29368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ro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5562720" y="2514600"/>
            <a:ext cx="22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9710692F.WAV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Hurray!  That’s it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24" descr="toptxtr"/>
          <p:cNvPicPr/>
          <p:nvPr/>
        </p:nvPicPr>
        <p:blipFill>
          <a:blip r:embed="rId2"/>
          <a:stretch/>
        </p:blipFill>
        <p:spPr>
          <a:xfrm>
            <a:off x="1936800" y="207000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You answered</a:t>
            </a:r>
            <a:br>
              <a:rPr sz="3600"/>
            </a:b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correctly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Good job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23"/>
          <p:cNvSpPr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25" descr="toptxtr"/>
          <p:cNvPicPr/>
          <p:nvPr/>
        </p:nvPicPr>
        <p:blipFill>
          <a:blip r:embed="rId3"/>
          <a:stretch/>
        </p:blipFill>
        <p:spPr>
          <a:xfrm>
            <a:off x="1905120" y="2819520"/>
            <a:ext cx="1269720" cy="1981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6" descr="j0300221[1]"/>
          <p:cNvPicPr/>
          <p:nvPr/>
        </p:nvPicPr>
        <p:blipFill>
          <a:blip r:embed="rId4"/>
          <a:stretch/>
        </p:blipFill>
        <p:spPr>
          <a:xfrm>
            <a:off x="1981080" y="236232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29">
            <a:hlinkClick r:id="" action="ppaction://hlinkshowjump?jump=nextslide"/>
          </p:cNvPr>
          <p:cNvSpPr/>
          <p:nvPr/>
        </p:nvSpPr>
        <p:spPr>
          <a:xfrm>
            <a:off x="3886200" y="5638680"/>
            <a:ext cx="1805040" cy="838440"/>
          </a:xfrm>
          <a:custGeom>
            <a:avLst/>
            <a:gdLst>
              <a:gd name="textAreaLeft" fmla="*/ 54360 w 1805040"/>
              <a:gd name="textAreaRight" fmla="*/ 1750680 w 1805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6491" h="21600">
                <a:moveTo>
                  <a:pt x="0" y="0"/>
                </a:moveTo>
                <a:lnTo>
                  <a:pt x="46491" y="0"/>
                </a:lnTo>
                <a:lnTo>
                  <a:pt x="46491" y="21600"/>
                </a:lnTo>
                <a:lnTo>
                  <a:pt x="0" y="21600"/>
                </a:lnTo>
                <a:close/>
              </a:path>
              <a:path fill="lightenLess" w="46491" h="21600">
                <a:moveTo>
                  <a:pt x="0" y="0"/>
                </a:moveTo>
                <a:lnTo>
                  <a:pt x="46491" y="0"/>
                </a:lnTo>
                <a:lnTo>
                  <a:pt x="45091" y="1400"/>
                </a:lnTo>
                <a:lnTo>
                  <a:pt x="1400" y="1400"/>
                </a:lnTo>
                <a:close/>
              </a:path>
              <a:path fill="darken" w="46491" h="21600">
                <a:moveTo>
                  <a:pt x="46491" y="0"/>
                </a:moveTo>
                <a:lnTo>
                  <a:pt x="46491" y="21600"/>
                </a:lnTo>
                <a:lnTo>
                  <a:pt x="45091" y="20200"/>
                </a:lnTo>
                <a:lnTo>
                  <a:pt x="45091" y="1400"/>
                </a:lnTo>
                <a:close/>
              </a:path>
              <a:path fill="darkenLess" w="46491" h="21600">
                <a:moveTo>
                  <a:pt x="46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91" y="20200"/>
                </a:lnTo>
                <a:close/>
              </a:path>
              <a:path fill="lighten" w="46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91" h="21600">
                <a:moveTo>
                  <a:pt x="16239" y="3794"/>
                </a:moveTo>
                <a:lnTo>
                  <a:pt x="30252" y="10800"/>
                </a:lnTo>
                <a:lnTo>
                  <a:pt x="1623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Comic Sans MS"/>
              </a:rPr>
              <a:t>Table of contents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09800" y="1447560"/>
            <a:ext cx="377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is an example of a table of contents in a boo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6" descr="Table%20of%20Contents"/>
          <p:cNvPicPr/>
          <p:nvPr/>
        </p:nvPicPr>
        <p:blipFill>
          <a:blip r:embed="rId1"/>
          <a:stretch/>
        </p:blipFill>
        <p:spPr>
          <a:xfrm>
            <a:off x="1162080" y="2209680"/>
            <a:ext cx="2817720" cy="327672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7">
            <a:hlinkClick r:id="" action="ppaction://hlinkshowjump?jump=nextslide"/>
          </p:cNvPr>
          <p:cNvSpPr/>
          <p:nvPr/>
        </p:nvSpPr>
        <p:spPr>
          <a:xfrm>
            <a:off x="3124080" y="5586480"/>
            <a:ext cx="1805040" cy="1271520"/>
          </a:xfrm>
          <a:custGeom>
            <a:avLst/>
            <a:gdLst>
              <a:gd name="textAreaLeft" fmla="*/ 82080 w 1805040"/>
              <a:gd name="textAreaRight" fmla="*/ 1722960 w 1805040"/>
              <a:gd name="textAreaTop" fmla="*/ 82080 h 1271520"/>
              <a:gd name="textAreaBottom" fmla="*/ 1189440 h 1271520"/>
            </a:gdLst>
            <a:ahLst/>
            <a:rect l="textAreaLeft" t="textAreaTop" r="textAreaRight" b="textAreaBottom"/>
            <a:pathLst>
              <a:path w="30661" h="21600">
                <a:moveTo>
                  <a:pt x="0" y="0"/>
                </a:moveTo>
                <a:lnTo>
                  <a:pt x="30661" y="0"/>
                </a:lnTo>
                <a:lnTo>
                  <a:pt x="30661" y="21600"/>
                </a:lnTo>
                <a:lnTo>
                  <a:pt x="0" y="21600"/>
                </a:lnTo>
                <a:close/>
              </a:path>
              <a:path fill="lightenLess" w="30661" h="21600">
                <a:moveTo>
                  <a:pt x="0" y="0"/>
                </a:moveTo>
                <a:lnTo>
                  <a:pt x="30661" y="0"/>
                </a:lnTo>
                <a:lnTo>
                  <a:pt x="29261" y="1400"/>
                </a:lnTo>
                <a:lnTo>
                  <a:pt x="1400" y="1400"/>
                </a:lnTo>
                <a:close/>
              </a:path>
              <a:path fill="darken" w="30661" h="21600">
                <a:moveTo>
                  <a:pt x="30661" y="0"/>
                </a:moveTo>
                <a:lnTo>
                  <a:pt x="30661" y="21600"/>
                </a:lnTo>
                <a:lnTo>
                  <a:pt x="29261" y="20200"/>
                </a:lnTo>
                <a:lnTo>
                  <a:pt x="29261" y="1400"/>
                </a:lnTo>
                <a:close/>
              </a:path>
              <a:path fill="darkenLess" w="30661" h="21600">
                <a:moveTo>
                  <a:pt x="30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1" y="20200"/>
                </a:lnTo>
                <a:close/>
              </a:path>
              <a:path fill="lighten" w="30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1" h="21600">
                <a:moveTo>
                  <a:pt x="8324" y="3794"/>
                </a:moveTo>
                <a:lnTo>
                  <a:pt x="22337" y="10800"/>
                </a:lnTo>
                <a:lnTo>
                  <a:pt x="83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pages you know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able of Contents is at the beginning of a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re is an index, it is at the back of the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lossary is at the back of the book too, and tells you what words in the book me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4">
            <a:hlinkClick r:id="" action="ppaction://hlinkshowjump?jump=nextslide"/>
          </p:cNvPr>
          <p:cNvSpPr/>
          <p:nvPr/>
        </p:nvSpPr>
        <p:spPr>
          <a:xfrm>
            <a:off x="3886200" y="5867280"/>
            <a:ext cx="1652760" cy="990720"/>
          </a:xfrm>
          <a:custGeom>
            <a:avLst/>
            <a:gdLst>
              <a:gd name="textAreaLeft" fmla="*/ 64080 w 1652760"/>
              <a:gd name="textAreaRight" fmla="*/ 1588680 w 16527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6029" h="21600">
                <a:moveTo>
                  <a:pt x="0" y="0"/>
                </a:moveTo>
                <a:lnTo>
                  <a:pt x="36029" y="0"/>
                </a:lnTo>
                <a:lnTo>
                  <a:pt x="36029" y="21600"/>
                </a:lnTo>
                <a:lnTo>
                  <a:pt x="0" y="21600"/>
                </a:lnTo>
                <a:close/>
              </a:path>
              <a:path fill="lightenLess" w="36029" h="21600">
                <a:moveTo>
                  <a:pt x="0" y="0"/>
                </a:moveTo>
                <a:lnTo>
                  <a:pt x="36029" y="0"/>
                </a:lnTo>
                <a:lnTo>
                  <a:pt x="34629" y="1400"/>
                </a:lnTo>
                <a:lnTo>
                  <a:pt x="1400" y="1400"/>
                </a:lnTo>
                <a:close/>
              </a:path>
              <a:path fill="darken" w="36029" h="21600">
                <a:moveTo>
                  <a:pt x="36029" y="0"/>
                </a:moveTo>
                <a:lnTo>
                  <a:pt x="36029" y="21600"/>
                </a:lnTo>
                <a:lnTo>
                  <a:pt x="34629" y="20200"/>
                </a:lnTo>
                <a:lnTo>
                  <a:pt x="34629" y="1400"/>
                </a:lnTo>
                <a:close/>
              </a:path>
              <a:path fill="darkenLess" w="36029" h="21600">
                <a:moveTo>
                  <a:pt x="36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9" y="20200"/>
                </a:lnTo>
                <a:close/>
              </a:path>
              <a:path fill="lighten" w="36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9" h="21600">
                <a:moveTo>
                  <a:pt x="11008" y="3794"/>
                </a:moveTo>
                <a:lnTo>
                  <a:pt x="25021" y="10800"/>
                </a:lnTo>
                <a:lnTo>
                  <a:pt x="1100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is an index from a book.  It is a lot like a table of cont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09800" y="137160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dex tells you what pages you find each topic or subject 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10">
            <a:hlinkClick r:id="" action="ppaction://hlinkshowjump?jump=nextslide"/>
          </p:cNvPr>
          <p:cNvSpPr/>
          <p:nvPr/>
        </p:nvSpPr>
        <p:spPr>
          <a:xfrm>
            <a:off x="3276720" y="5943600"/>
            <a:ext cx="2109600" cy="1271520"/>
          </a:xfrm>
          <a:custGeom>
            <a:avLst/>
            <a:gdLst>
              <a:gd name="textAreaLeft" fmla="*/ 82080 w 2109600"/>
              <a:gd name="textAreaRight" fmla="*/ 2027520 w 2109600"/>
              <a:gd name="textAreaTop" fmla="*/ 82080 h 1271520"/>
              <a:gd name="textAreaBottom" fmla="*/ 1189440 h 1271520"/>
            </a:gdLst>
            <a:ahLst/>
            <a:rect l="textAreaLeft" t="textAreaTop" r="textAreaRight" b="textAreaBottom"/>
            <a:pathLst>
              <a:path w="35833" h="21600">
                <a:moveTo>
                  <a:pt x="0" y="0"/>
                </a:moveTo>
                <a:lnTo>
                  <a:pt x="35833" y="0"/>
                </a:lnTo>
                <a:lnTo>
                  <a:pt x="35833" y="21600"/>
                </a:lnTo>
                <a:lnTo>
                  <a:pt x="0" y="21600"/>
                </a:lnTo>
                <a:close/>
              </a:path>
              <a:path fill="lightenLess" w="35833" h="21600">
                <a:moveTo>
                  <a:pt x="0" y="0"/>
                </a:moveTo>
                <a:lnTo>
                  <a:pt x="35833" y="0"/>
                </a:lnTo>
                <a:lnTo>
                  <a:pt x="34433" y="1400"/>
                </a:lnTo>
                <a:lnTo>
                  <a:pt x="1400" y="1400"/>
                </a:lnTo>
                <a:close/>
              </a:path>
              <a:path fill="darken" w="35833" h="21600">
                <a:moveTo>
                  <a:pt x="35833" y="0"/>
                </a:moveTo>
                <a:lnTo>
                  <a:pt x="35833" y="21600"/>
                </a:lnTo>
                <a:lnTo>
                  <a:pt x="34433" y="20200"/>
                </a:lnTo>
                <a:lnTo>
                  <a:pt x="34433" y="1400"/>
                </a:lnTo>
                <a:close/>
              </a:path>
              <a:path fill="darkenLess" w="35833" h="21600">
                <a:moveTo>
                  <a:pt x="358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3" y="20200"/>
                </a:lnTo>
                <a:close/>
              </a:path>
              <a:path fill="lighten" w="358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3" h="21600">
                <a:moveTo>
                  <a:pt x="10910" y="3794"/>
                </a:moveTo>
                <a:lnTo>
                  <a:pt x="24923" y="10800"/>
                </a:lnTo>
                <a:lnTo>
                  <a:pt x="1091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16" descr="IA_index"/>
          <p:cNvPicPr/>
          <p:nvPr/>
        </p:nvPicPr>
        <p:blipFill>
          <a:blip r:embed="rId1"/>
          <a:stretch/>
        </p:blipFill>
        <p:spPr>
          <a:xfrm>
            <a:off x="1600200" y="2514600"/>
            <a:ext cx="2332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72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loss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s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s us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7" descr="glossary"/>
          <p:cNvPicPr/>
          <p:nvPr/>
        </p:nvPicPr>
        <p:blipFill>
          <a:blip r:embed="rId1"/>
          <a:stretch/>
        </p:blipFill>
        <p:spPr>
          <a:xfrm>
            <a:off x="4419720" y="2362320"/>
            <a:ext cx="4038480" cy="286380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>
            <a:hlinkClick r:id="" action="ppaction://hlinkshowjump?jump=nextslide"/>
          </p:cNvPr>
          <p:cNvSpPr/>
          <p:nvPr/>
        </p:nvSpPr>
        <p:spPr>
          <a:xfrm>
            <a:off x="3809880" y="5715000"/>
            <a:ext cx="1729080" cy="1143000"/>
          </a:xfrm>
          <a:custGeom>
            <a:avLst/>
            <a:gdLst>
              <a:gd name="textAreaLeft" fmla="*/ 73800 w 1729080"/>
              <a:gd name="textAreaRight" fmla="*/ 1655280 w 1729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2672" h="21600">
                <a:moveTo>
                  <a:pt x="0" y="0"/>
                </a:moveTo>
                <a:lnTo>
                  <a:pt x="32672" y="0"/>
                </a:lnTo>
                <a:lnTo>
                  <a:pt x="32672" y="21600"/>
                </a:lnTo>
                <a:lnTo>
                  <a:pt x="0" y="21600"/>
                </a:lnTo>
                <a:close/>
              </a:path>
              <a:path fill="lightenLess" w="32672" h="21600">
                <a:moveTo>
                  <a:pt x="0" y="0"/>
                </a:moveTo>
                <a:lnTo>
                  <a:pt x="32672" y="0"/>
                </a:lnTo>
                <a:lnTo>
                  <a:pt x="31272" y="1400"/>
                </a:lnTo>
                <a:lnTo>
                  <a:pt x="1400" y="1400"/>
                </a:lnTo>
                <a:close/>
              </a:path>
              <a:path fill="darken" w="32672" h="21600">
                <a:moveTo>
                  <a:pt x="32672" y="0"/>
                </a:moveTo>
                <a:lnTo>
                  <a:pt x="32672" y="21600"/>
                </a:lnTo>
                <a:lnTo>
                  <a:pt x="31272" y="20200"/>
                </a:lnTo>
                <a:lnTo>
                  <a:pt x="31272" y="1400"/>
                </a:lnTo>
                <a:close/>
              </a:path>
              <a:path fill="darkenLess" w="32672" h="21600">
                <a:moveTo>
                  <a:pt x="3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2" y="20200"/>
                </a:lnTo>
                <a:close/>
              </a:path>
              <a:path fill="lighten" w="3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2" h="21600">
                <a:moveTo>
                  <a:pt x="9330" y="3794"/>
                </a:moveTo>
                <a:lnTo>
                  <a:pt x="23343" y="10800"/>
                </a:lnTo>
                <a:lnTo>
                  <a:pt x="933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is th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utho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 The author is the person who writes the stor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rites the words of a story.  Sometimes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raws the pictures too – then you say the person is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illustrator.  The author always writes the word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4">
            <a:hlinkClick r:id="" action="ppaction://hlinkshowjump?jump=nextslide"/>
          </p:cNvPr>
          <p:cNvSpPr/>
          <p:nvPr/>
        </p:nvSpPr>
        <p:spPr>
          <a:xfrm>
            <a:off x="3733920" y="5943600"/>
            <a:ext cx="1600200" cy="914400"/>
          </a:xfrm>
          <a:custGeom>
            <a:avLst/>
            <a:gdLst>
              <a:gd name="textAreaLeft" fmla="*/ 59040 w 1600200"/>
              <a:gd name="textAreaRight" fmla="*/ 1541160 w 1600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3794"/>
                </a:moveTo>
                <a:lnTo>
                  <a:pt x="25903" y="10800"/>
                </a:lnTo>
                <a:lnTo>
                  <a:pt x="118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5">
            <a:hlinkClick r:id="rId1" action="ppaction://hlinksldjump"/>
          </p:cNvPr>
          <p:cNvSpPr/>
          <p:nvPr/>
        </p:nvSpPr>
        <p:spPr>
          <a:xfrm>
            <a:off x="5943600" y="4495680"/>
            <a:ext cx="1752480" cy="304920"/>
          </a:xfrm>
          <a:custGeom>
            <a:avLst/>
            <a:gdLst>
              <a:gd name="textAreaLeft" fmla="*/ 19440 w 1752480"/>
              <a:gd name="textAreaRight" fmla="*/ 1733040 w 1752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4022" h="21600">
                <a:moveTo>
                  <a:pt x="0" y="0"/>
                </a:moveTo>
                <a:lnTo>
                  <a:pt x="124022" y="0"/>
                </a:lnTo>
                <a:lnTo>
                  <a:pt x="124022" y="21600"/>
                </a:lnTo>
                <a:lnTo>
                  <a:pt x="0" y="21600"/>
                </a:lnTo>
                <a:close/>
              </a:path>
              <a:path fill="lightenLess" w="124022" h="21600">
                <a:moveTo>
                  <a:pt x="0" y="0"/>
                </a:moveTo>
                <a:lnTo>
                  <a:pt x="124022" y="0"/>
                </a:lnTo>
                <a:lnTo>
                  <a:pt x="122622" y="1400"/>
                </a:lnTo>
                <a:lnTo>
                  <a:pt x="1400" y="1400"/>
                </a:lnTo>
                <a:close/>
              </a:path>
              <a:path fill="darken" w="124022" h="21600">
                <a:moveTo>
                  <a:pt x="124022" y="0"/>
                </a:moveTo>
                <a:lnTo>
                  <a:pt x="124022" y="21600"/>
                </a:lnTo>
                <a:lnTo>
                  <a:pt x="122622" y="20200"/>
                </a:lnTo>
                <a:lnTo>
                  <a:pt x="122622" y="1400"/>
                </a:lnTo>
                <a:close/>
              </a:path>
              <a:path fill="darkenLess" w="124022" h="21600">
                <a:moveTo>
                  <a:pt x="12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622" y="20200"/>
                </a:lnTo>
                <a:close/>
              </a:path>
              <a:path fill="lighten" w="12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-686160"/>
            <a:ext cx="6794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hler Grade Libra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ibrary at Buhler Grade Elementary School is arranged in four section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y (Picture Books) Fi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 (Chapter Book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-fiction (Information Book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ograph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4">
            <a:hlinkClick r:id="" action="ppaction://hlinkshowjump?jump=nextslide"/>
          </p:cNvPr>
          <p:cNvSpPr/>
          <p:nvPr/>
        </p:nvSpPr>
        <p:spPr>
          <a:xfrm>
            <a:off x="4038480" y="55627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3794"/>
                </a:moveTo>
                <a:lnTo>
                  <a:pt x="23209" y="10800"/>
                </a:lnTo>
                <a:lnTo>
                  <a:pt x="919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author writes the words of the 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c Brown is the author of this Arthur book.  He wrote the words of the stori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Picture 11" descr="0316115738"/>
          <p:cNvPicPr/>
          <p:nvPr/>
        </p:nvPicPr>
        <p:blipFill>
          <a:blip r:embed="rId1"/>
          <a:stretch/>
        </p:blipFill>
        <p:spPr>
          <a:xfrm>
            <a:off x="5232240" y="1828800"/>
            <a:ext cx="2525760" cy="36576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12">
            <a:hlinkClick r:id="" action="ppaction://hlinkshowjump?jump=nextslide"/>
          </p:cNvPr>
          <p:cNvSpPr/>
          <p:nvPr/>
        </p:nvSpPr>
        <p:spPr>
          <a:xfrm>
            <a:off x="3581280" y="5715000"/>
            <a:ext cx="1729080" cy="1143000"/>
          </a:xfrm>
          <a:custGeom>
            <a:avLst/>
            <a:gdLst>
              <a:gd name="textAreaLeft" fmla="*/ 73800 w 1729080"/>
              <a:gd name="textAreaRight" fmla="*/ 1655280 w 17290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2672" h="21600">
                <a:moveTo>
                  <a:pt x="0" y="0"/>
                </a:moveTo>
                <a:lnTo>
                  <a:pt x="32672" y="0"/>
                </a:lnTo>
                <a:lnTo>
                  <a:pt x="32672" y="21600"/>
                </a:lnTo>
                <a:lnTo>
                  <a:pt x="0" y="21600"/>
                </a:lnTo>
                <a:close/>
              </a:path>
              <a:path fill="lightenLess" w="32672" h="21600">
                <a:moveTo>
                  <a:pt x="0" y="0"/>
                </a:moveTo>
                <a:lnTo>
                  <a:pt x="32672" y="0"/>
                </a:lnTo>
                <a:lnTo>
                  <a:pt x="31272" y="1400"/>
                </a:lnTo>
                <a:lnTo>
                  <a:pt x="1400" y="1400"/>
                </a:lnTo>
                <a:close/>
              </a:path>
              <a:path fill="darken" w="32672" h="21600">
                <a:moveTo>
                  <a:pt x="32672" y="0"/>
                </a:moveTo>
                <a:lnTo>
                  <a:pt x="32672" y="21600"/>
                </a:lnTo>
                <a:lnTo>
                  <a:pt x="31272" y="20200"/>
                </a:lnTo>
                <a:lnTo>
                  <a:pt x="31272" y="1400"/>
                </a:lnTo>
                <a:close/>
              </a:path>
              <a:path fill="darkenLess" w="32672" h="21600">
                <a:moveTo>
                  <a:pt x="32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72" y="20200"/>
                </a:lnTo>
                <a:close/>
              </a:path>
              <a:path fill="lighten" w="32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72" h="21600">
                <a:moveTo>
                  <a:pt x="9330" y="3794"/>
                </a:moveTo>
                <a:lnTo>
                  <a:pt x="23343" y="10800"/>
                </a:lnTo>
                <a:lnTo>
                  <a:pt x="933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es the author 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or is the person who reads the story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he librar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or draws signs on billboards around t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or writes the words of the st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or draws the pictures, but doesn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wr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any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AutoShape 10">
            <a:hlinkClick r:id="rId1" action="ppaction://hlinksldjump"/>
          </p:cNvPr>
          <p:cNvSpPr/>
          <p:nvPr/>
        </p:nvSpPr>
        <p:spPr>
          <a:xfrm>
            <a:off x="838080" y="1447920"/>
            <a:ext cx="6248520" cy="914400"/>
          </a:xfrm>
          <a:custGeom>
            <a:avLst/>
            <a:gdLst>
              <a:gd name="textAreaLeft" fmla="*/ 59040 w 6248520"/>
              <a:gd name="textAreaRight" fmla="*/ 6189480 w 6248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47553" h="21600">
                <a:moveTo>
                  <a:pt x="0" y="0"/>
                </a:moveTo>
                <a:lnTo>
                  <a:pt x="147553" y="0"/>
                </a:lnTo>
                <a:lnTo>
                  <a:pt x="147553" y="21600"/>
                </a:lnTo>
                <a:lnTo>
                  <a:pt x="0" y="21600"/>
                </a:lnTo>
                <a:close/>
              </a:path>
              <a:path fill="lightenLess" w="147553" h="21600">
                <a:moveTo>
                  <a:pt x="0" y="0"/>
                </a:moveTo>
                <a:lnTo>
                  <a:pt x="147553" y="0"/>
                </a:lnTo>
                <a:lnTo>
                  <a:pt x="146153" y="1400"/>
                </a:lnTo>
                <a:lnTo>
                  <a:pt x="1400" y="1400"/>
                </a:lnTo>
                <a:close/>
              </a:path>
              <a:path fill="darken" w="147553" h="21600">
                <a:moveTo>
                  <a:pt x="147553" y="0"/>
                </a:moveTo>
                <a:lnTo>
                  <a:pt x="147553" y="21600"/>
                </a:lnTo>
                <a:lnTo>
                  <a:pt x="146153" y="20200"/>
                </a:lnTo>
                <a:lnTo>
                  <a:pt x="146153" y="1400"/>
                </a:lnTo>
                <a:close/>
              </a:path>
              <a:path fill="darkenLess" w="147553" h="21600">
                <a:moveTo>
                  <a:pt x="147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6153" y="20200"/>
                </a:lnTo>
                <a:close/>
              </a:path>
              <a:path fill="lighten" w="147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AutoShape 11">
            <a:hlinkClick r:id="rId2" action="ppaction://hlinksldjump"/>
          </p:cNvPr>
          <p:cNvSpPr/>
          <p:nvPr/>
        </p:nvSpPr>
        <p:spPr>
          <a:xfrm>
            <a:off x="838080" y="3200400"/>
            <a:ext cx="6324840" cy="457200"/>
          </a:xfrm>
          <a:custGeom>
            <a:avLst/>
            <a:gdLst>
              <a:gd name="textAreaLeft" fmla="*/ 29520 w 6324840"/>
              <a:gd name="textAreaRight" fmla="*/ 6295320 w 6324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98593" h="21600">
                <a:moveTo>
                  <a:pt x="0" y="0"/>
                </a:moveTo>
                <a:lnTo>
                  <a:pt x="298593" y="0"/>
                </a:lnTo>
                <a:lnTo>
                  <a:pt x="298593" y="21600"/>
                </a:lnTo>
                <a:lnTo>
                  <a:pt x="0" y="21600"/>
                </a:lnTo>
                <a:close/>
              </a:path>
              <a:path fill="lightenLess" w="298593" h="21600">
                <a:moveTo>
                  <a:pt x="0" y="0"/>
                </a:moveTo>
                <a:lnTo>
                  <a:pt x="298593" y="0"/>
                </a:lnTo>
                <a:lnTo>
                  <a:pt x="297193" y="1400"/>
                </a:lnTo>
                <a:lnTo>
                  <a:pt x="1400" y="1400"/>
                </a:lnTo>
                <a:close/>
              </a:path>
              <a:path fill="darken" w="298593" h="21600">
                <a:moveTo>
                  <a:pt x="298593" y="0"/>
                </a:moveTo>
                <a:lnTo>
                  <a:pt x="298593" y="21600"/>
                </a:lnTo>
                <a:lnTo>
                  <a:pt x="297193" y="20200"/>
                </a:lnTo>
                <a:lnTo>
                  <a:pt x="297193" y="1400"/>
                </a:lnTo>
                <a:close/>
              </a:path>
              <a:path fill="darkenLess" w="298593" h="21600">
                <a:moveTo>
                  <a:pt x="2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93" y="20200"/>
                </a:lnTo>
                <a:close/>
              </a:path>
              <a:path fill="lighten" w="2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AutoShape 12">
            <a:hlinkClick r:id="rId3" action="ppaction://hlinksldjump"/>
          </p:cNvPr>
          <p:cNvSpPr/>
          <p:nvPr/>
        </p:nvSpPr>
        <p:spPr>
          <a:xfrm>
            <a:off x="838080" y="4267080"/>
            <a:ext cx="6172200" cy="381240"/>
          </a:xfrm>
          <a:custGeom>
            <a:avLst/>
            <a:gdLst>
              <a:gd name="textAreaLeft" fmla="*/ 24480 w 6172200"/>
              <a:gd name="textAreaRight" fmla="*/ 6147720 w 6172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9390" h="21600">
                <a:moveTo>
                  <a:pt x="0" y="0"/>
                </a:moveTo>
                <a:lnTo>
                  <a:pt x="349390" y="0"/>
                </a:lnTo>
                <a:lnTo>
                  <a:pt x="349390" y="21600"/>
                </a:lnTo>
                <a:lnTo>
                  <a:pt x="0" y="21600"/>
                </a:lnTo>
                <a:close/>
              </a:path>
              <a:path fill="lightenLess" w="349390" h="21600">
                <a:moveTo>
                  <a:pt x="0" y="0"/>
                </a:moveTo>
                <a:lnTo>
                  <a:pt x="349390" y="0"/>
                </a:lnTo>
                <a:lnTo>
                  <a:pt x="347990" y="1400"/>
                </a:lnTo>
                <a:lnTo>
                  <a:pt x="1400" y="1400"/>
                </a:lnTo>
                <a:close/>
              </a:path>
              <a:path fill="darken" w="349390" h="21600">
                <a:moveTo>
                  <a:pt x="349390" y="0"/>
                </a:moveTo>
                <a:lnTo>
                  <a:pt x="349390" y="21600"/>
                </a:lnTo>
                <a:lnTo>
                  <a:pt x="347990" y="20200"/>
                </a:lnTo>
                <a:lnTo>
                  <a:pt x="347990" y="1400"/>
                </a:lnTo>
                <a:close/>
              </a:path>
              <a:path fill="darkenLess" w="349390" h="21600">
                <a:moveTo>
                  <a:pt x="34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990" y="20200"/>
                </a:lnTo>
                <a:close/>
              </a:path>
              <a:path fill="lighten" w="34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AutoShape 13">
            <a:hlinkClick r:id="rId4" action="ppaction://hlinksldjump"/>
          </p:cNvPr>
          <p:cNvSpPr/>
          <p:nvPr/>
        </p:nvSpPr>
        <p:spPr>
          <a:xfrm>
            <a:off x="762120" y="4800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15">
            <a:hlinkClick r:id="rId5" action="ppaction://hlinksldjump"/>
          </p:cNvPr>
          <p:cNvSpPr/>
          <p:nvPr/>
        </p:nvSpPr>
        <p:spPr>
          <a:xfrm>
            <a:off x="990720" y="2590920"/>
            <a:ext cx="7010280" cy="761760"/>
          </a:xfrm>
          <a:custGeom>
            <a:avLst/>
            <a:gdLst>
              <a:gd name="textAreaLeft" fmla="*/ 49320 w 7010280"/>
              <a:gd name="textAreaRight" fmla="*/ 6960960 w 7010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98696" h="21600">
                <a:moveTo>
                  <a:pt x="0" y="0"/>
                </a:moveTo>
                <a:lnTo>
                  <a:pt x="198696" y="0"/>
                </a:lnTo>
                <a:lnTo>
                  <a:pt x="198696" y="21600"/>
                </a:lnTo>
                <a:lnTo>
                  <a:pt x="0" y="21600"/>
                </a:lnTo>
                <a:close/>
              </a:path>
              <a:path fill="lightenLess" w="198696" h="21600">
                <a:moveTo>
                  <a:pt x="0" y="0"/>
                </a:moveTo>
                <a:lnTo>
                  <a:pt x="198696" y="0"/>
                </a:lnTo>
                <a:lnTo>
                  <a:pt x="197296" y="1400"/>
                </a:lnTo>
                <a:lnTo>
                  <a:pt x="1400" y="1400"/>
                </a:lnTo>
                <a:close/>
              </a:path>
              <a:path fill="darken" w="198696" h="21600">
                <a:moveTo>
                  <a:pt x="198696" y="0"/>
                </a:moveTo>
                <a:lnTo>
                  <a:pt x="198696" y="21600"/>
                </a:lnTo>
                <a:lnTo>
                  <a:pt x="197296" y="20200"/>
                </a:lnTo>
                <a:lnTo>
                  <a:pt x="197296" y="1400"/>
                </a:lnTo>
                <a:close/>
              </a:path>
              <a:path fill="darkenLess" w="198696" h="21600">
                <a:moveTo>
                  <a:pt x="198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296" y="20200"/>
                </a:lnTo>
                <a:close/>
              </a:path>
              <a:path fill="lighten" w="198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AutoShape 16">
            <a:hlinkClick r:id="rId6" action="ppaction://hlinksldjump"/>
          </p:cNvPr>
          <p:cNvSpPr/>
          <p:nvPr/>
        </p:nvSpPr>
        <p:spPr>
          <a:xfrm>
            <a:off x="914400" y="3809880"/>
            <a:ext cx="5791320" cy="609840"/>
          </a:xfrm>
          <a:custGeom>
            <a:avLst/>
            <a:gdLst>
              <a:gd name="textAreaLeft" fmla="*/ 39240 w 5791320"/>
              <a:gd name="textAreaRight" fmla="*/ 5752080 w 5791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05015" h="21600">
                <a:moveTo>
                  <a:pt x="0" y="0"/>
                </a:moveTo>
                <a:lnTo>
                  <a:pt x="205015" y="0"/>
                </a:lnTo>
                <a:lnTo>
                  <a:pt x="205015" y="21600"/>
                </a:lnTo>
                <a:lnTo>
                  <a:pt x="0" y="21600"/>
                </a:lnTo>
                <a:close/>
              </a:path>
              <a:path fill="lightenLess" w="205015" h="21600">
                <a:moveTo>
                  <a:pt x="0" y="0"/>
                </a:moveTo>
                <a:lnTo>
                  <a:pt x="205015" y="0"/>
                </a:lnTo>
                <a:lnTo>
                  <a:pt x="203615" y="1400"/>
                </a:lnTo>
                <a:lnTo>
                  <a:pt x="1400" y="1400"/>
                </a:lnTo>
                <a:close/>
              </a:path>
              <a:path fill="darken" w="205015" h="21600">
                <a:moveTo>
                  <a:pt x="205015" y="0"/>
                </a:moveTo>
                <a:lnTo>
                  <a:pt x="205015" y="21600"/>
                </a:lnTo>
                <a:lnTo>
                  <a:pt x="203615" y="20200"/>
                </a:lnTo>
                <a:lnTo>
                  <a:pt x="203615" y="1400"/>
                </a:lnTo>
                <a:close/>
              </a:path>
              <a:path fill="darkenLess" w="205015" h="21600">
                <a:moveTo>
                  <a:pt x="205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15" y="20200"/>
                </a:lnTo>
                <a:close/>
              </a:path>
              <a:path fill="lighten" w="205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2362320" y="6324480"/>
            <a:ext cx="4419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Click on your choice to answ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58CF1774.WAV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AWESOM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You know the author writes the words of the story.  Good job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WordArt 10"/>
          <p:cNvSpPr txBox="1"/>
          <p:nvPr/>
        </p:nvSpPr>
        <p:spPr>
          <a:xfrm>
            <a:off x="1905120" y="8380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at's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21" name="Picture 12" descr="j0252143[1]"/>
          <p:cNvPicPr/>
          <p:nvPr/>
        </p:nvPicPr>
        <p:blipFill>
          <a:blip r:embed="rId4"/>
          <a:stretch/>
        </p:blipFill>
        <p:spPr>
          <a:xfrm>
            <a:off x="1954080" y="2133720"/>
            <a:ext cx="1648080" cy="297180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13">
            <a:hlinkClick r:id="rId5" action="ppaction://hlinksldjump"/>
          </p:cNvPr>
          <p:cNvSpPr/>
          <p:nvPr/>
        </p:nvSpPr>
        <p:spPr>
          <a:xfrm flipV="1">
            <a:off x="281952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1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1" y="20200"/>
                </a:lnTo>
                <a:lnTo>
                  <a:pt x="41791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1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1" h="21600">
                <a:moveTo>
                  <a:pt x="14589" y="3794"/>
                </a:moveTo>
                <a:lnTo>
                  <a:pt x="28602" y="10800"/>
                </a:lnTo>
                <a:lnTo>
                  <a:pt x="1458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102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od try . . . read this . . 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uthor is the person that writes the story.  (The person that draws the pictures is called the Illustrator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that writes the words of the story is the autho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AutoShape 6">
            <a:hlinkClick r:id="" action="ppaction://hlinkshowjump?jump=previousslide"/>
          </p:cNvPr>
          <p:cNvSpPr/>
          <p:nvPr/>
        </p:nvSpPr>
        <p:spPr>
          <a:xfrm>
            <a:off x="3276720" y="548640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7">
            <a:hlinkClick r:id="" action="ppaction://hlinkshowjump?jump=previousslide"/>
          </p:cNvPr>
          <p:cNvSpPr/>
          <p:nvPr/>
        </p:nvSpPr>
        <p:spPr>
          <a:xfrm>
            <a:off x="3276720" y="548640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AutoShape 8">
            <a:hlinkClick r:id="rId1" action="ppaction://hlinksldjump"/>
          </p:cNvPr>
          <p:cNvSpPr/>
          <p:nvPr/>
        </p:nvSpPr>
        <p:spPr>
          <a:xfrm>
            <a:off x="3276720" y="5486400"/>
            <a:ext cx="2209680" cy="990720"/>
          </a:xfrm>
          <a:custGeom>
            <a:avLst/>
            <a:gdLst>
              <a:gd name="textAreaLeft" fmla="*/ 64080 w 2209680"/>
              <a:gd name="textAreaRight" fmla="*/ 2145600 w 2209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8167" h="21600">
                <a:moveTo>
                  <a:pt x="0" y="0"/>
                </a:moveTo>
                <a:lnTo>
                  <a:pt x="48167" y="0"/>
                </a:lnTo>
                <a:lnTo>
                  <a:pt x="48167" y="21600"/>
                </a:lnTo>
                <a:lnTo>
                  <a:pt x="0" y="21600"/>
                </a:lnTo>
                <a:close/>
              </a:path>
              <a:path fill="lightenLess" w="48167" h="21600">
                <a:moveTo>
                  <a:pt x="0" y="0"/>
                </a:moveTo>
                <a:lnTo>
                  <a:pt x="48167" y="0"/>
                </a:lnTo>
                <a:lnTo>
                  <a:pt x="46767" y="1400"/>
                </a:lnTo>
                <a:lnTo>
                  <a:pt x="1400" y="1400"/>
                </a:lnTo>
                <a:close/>
              </a:path>
              <a:path fill="darken" w="48167" h="21600">
                <a:moveTo>
                  <a:pt x="48167" y="0"/>
                </a:moveTo>
                <a:lnTo>
                  <a:pt x="48167" y="21600"/>
                </a:lnTo>
                <a:lnTo>
                  <a:pt x="46767" y="20200"/>
                </a:lnTo>
                <a:lnTo>
                  <a:pt x="46767" y="1400"/>
                </a:lnTo>
                <a:close/>
              </a:path>
              <a:path fill="darkenLess" w="48167" h="21600">
                <a:moveTo>
                  <a:pt x="4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7" y="20200"/>
                </a:lnTo>
                <a:close/>
              </a:path>
              <a:path fill="lighten" w="4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 to tr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llustrator draws the pictures in a book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is the person that draws the pictures in a story boo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there are pictures on every page, and they tell a big part of the stor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draws them is the illustrato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4">
            <a:hlinkClick r:id="" action="ppaction://hlinkshowjump?jump=nextslide"/>
          </p:cNvPr>
          <p:cNvSpPr/>
          <p:nvPr/>
        </p:nvSpPr>
        <p:spPr>
          <a:xfrm>
            <a:off x="3886200" y="56386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95" h="21600">
                <a:moveTo>
                  <a:pt x="11641" y="3794"/>
                </a:moveTo>
                <a:lnTo>
                  <a:pt x="25654" y="10800"/>
                </a:lnTo>
                <a:lnTo>
                  <a:pt x="1164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llustrator draws the pi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09800" y="2362320"/>
            <a:ext cx="3771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book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lustra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ny DiTerlizz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He won an award for the drawings!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AutoShape 8">
            <a:hlinkClick r:id="" action="ppaction://hlinkshowjump?jump=nextslide"/>
          </p:cNvPr>
          <p:cNvSpPr/>
          <p:nvPr/>
        </p:nvSpPr>
        <p:spPr>
          <a:xfrm>
            <a:off x="3886200" y="5715000"/>
            <a:ext cx="1805040" cy="1195560"/>
          </a:xfrm>
          <a:custGeom>
            <a:avLst/>
            <a:gdLst>
              <a:gd name="textAreaLeft" fmla="*/ 77400 w 1805040"/>
              <a:gd name="textAreaRight" fmla="*/ 1727640 w 1805040"/>
              <a:gd name="textAreaTop" fmla="*/ 77400 h 1195560"/>
              <a:gd name="textAreaBottom" fmla="*/ 1118160 h 1195560"/>
            </a:gdLst>
            <a:ahLst/>
            <a:rect l="textAreaLeft" t="textAreaTop" r="textAreaRight" b="textAreaBottom"/>
            <a:pathLst>
              <a:path w="32608" h="21600">
                <a:moveTo>
                  <a:pt x="0" y="0"/>
                </a:moveTo>
                <a:lnTo>
                  <a:pt x="32608" y="0"/>
                </a:lnTo>
                <a:lnTo>
                  <a:pt x="32608" y="21600"/>
                </a:lnTo>
                <a:lnTo>
                  <a:pt x="0" y="21600"/>
                </a:lnTo>
                <a:close/>
              </a:path>
              <a:path fill="lightenLess" w="32608" h="21600">
                <a:moveTo>
                  <a:pt x="0" y="0"/>
                </a:moveTo>
                <a:lnTo>
                  <a:pt x="32608" y="0"/>
                </a:lnTo>
                <a:lnTo>
                  <a:pt x="31208" y="1400"/>
                </a:lnTo>
                <a:lnTo>
                  <a:pt x="1400" y="1400"/>
                </a:lnTo>
                <a:close/>
              </a:path>
              <a:path fill="darken" w="32608" h="21600">
                <a:moveTo>
                  <a:pt x="32608" y="0"/>
                </a:moveTo>
                <a:lnTo>
                  <a:pt x="32608" y="21600"/>
                </a:lnTo>
                <a:lnTo>
                  <a:pt x="31208" y="20200"/>
                </a:lnTo>
                <a:lnTo>
                  <a:pt x="31208" y="1400"/>
                </a:lnTo>
                <a:close/>
              </a:path>
              <a:path fill="darkenLess" w="32608" h="21600">
                <a:moveTo>
                  <a:pt x="32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08" y="20200"/>
                </a:lnTo>
                <a:close/>
              </a:path>
              <a:path fill="lighten" w="32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08" h="21600">
                <a:moveTo>
                  <a:pt x="9298" y="3794"/>
                </a:moveTo>
                <a:lnTo>
                  <a:pt x="23311" y="10800"/>
                </a:lnTo>
                <a:lnTo>
                  <a:pt x="929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4" name="Picture 10" descr="0689852894"/>
          <p:cNvPicPr/>
          <p:nvPr/>
        </p:nvPicPr>
        <p:blipFill>
          <a:blip r:embed="rId1"/>
          <a:stretch/>
        </p:blipFill>
        <p:spPr>
          <a:xfrm>
            <a:off x="685800" y="1938240"/>
            <a:ext cx="37720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es the Illustrator d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is the person that buys the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mails the book to people who order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writes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llustrator draws the pictures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AutoShape 9">
            <a:hlinkClick r:id="rId1" action="ppaction://hlinksldjump"/>
          </p:cNvPr>
          <p:cNvSpPr/>
          <p:nvPr/>
        </p:nvSpPr>
        <p:spPr>
          <a:xfrm>
            <a:off x="1066680" y="1981080"/>
            <a:ext cx="5257800" cy="762120"/>
          </a:xfrm>
          <a:custGeom>
            <a:avLst/>
            <a:gdLst>
              <a:gd name="textAreaLeft" fmla="*/ 49320 w 5257800"/>
              <a:gd name="textAreaRight" fmla="*/ 5208480 w 5257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8956" h="21600">
                <a:moveTo>
                  <a:pt x="0" y="0"/>
                </a:moveTo>
                <a:lnTo>
                  <a:pt x="148956" y="0"/>
                </a:lnTo>
                <a:lnTo>
                  <a:pt x="148956" y="21600"/>
                </a:lnTo>
                <a:lnTo>
                  <a:pt x="0" y="21600"/>
                </a:lnTo>
                <a:close/>
              </a:path>
              <a:path fill="lightenLess" w="148956" h="21600">
                <a:moveTo>
                  <a:pt x="0" y="0"/>
                </a:moveTo>
                <a:lnTo>
                  <a:pt x="148956" y="0"/>
                </a:lnTo>
                <a:lnTo>
                  <a:pt x="147556" y="1400"/>
                </a:lnTo>
                <a:lnTo>
                  <a:pt x="1400" y="1400"/>
                </a:lnTo>
                <a:close/>
              </a:path>
              <a:path fill="darken" w="148956" h="21600">
                <a:moveTo>
                  <a:pt x="148956" y="0"/>
                </a:moveTo>
                <a:lnTo>
                  <a:pt x="148956" y="21600"/>
                </a:lnTo>
                <a:lnTo>
                  <a:pt x="147556" y="20200"/>
                </a:lnTo>
                <a:lnTo>
                  <a:pt x="147556" y="1400"/>
                </a:lnTo>
                <a:close/>
              </a:path>
              <a:path fill="darkenLess" w="148956" h="21600">
                <a:moveTo>
                  <a:pt x="148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556" y="20200"/>
                </a:lnTo>
                <a:close/>
              </a:path>
              <a:path fill="lighten" w="148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utoShape 10">
            <a:hlinkClick r:id="rId2" action="ppaction://hlinksldjump"/>
          </p:cNvPr>
          <p:cNvSpPr/>
          <p:nvPr/>
        </p:nvSpPr>
        <p:spPr>
          <a:xfrm>
            <a:off x="1219320" y="3200400"/>
            <a:ext cx="5029200" cy="685800"/>
          </a:xfrm>
          <a:custGeom>
            <a:avLst/>
            <a:gdLst>
              <a:gd name="textAreaLeft" fmla="*/ 44280 w 5029200"/>
              <a:gd name="textAreaRight" fmla="*/ 4984920 w 5029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58328" h="21600">
                <a:moveTo>
                  <a:pt x="0" y="0"/>
                </a:moveTo>
                <a:lnTo>
                  <a:pt x="158328" y="0"/>
                </a:lnTo>
                <a:lnTo>
                  <a:pt x="158328" y="21600"/>
                </a:lnTo>
                <a:lnTo>
                  <a:pt x="0" y="21600"/>
                </a:lnTo>
                <a:close/>
              </a:path>
              <a:path fill="lightenLess" w="158328" h="21600">
                <a:moveTo>
                  <a:pt x="0" y="0"/>
                </a:moveTo>
                <a:lnTo>
                  <a:pt x="158328" y="0"/>
                </a:lnTo>
                <a:lnTo>
                  <a:pt x="156928" y="1400"/>
                </a:lnTo>
                <a:lnTo>
                  <a:pt x="1400" y="1400"/>
                </a:lnTo>
                <a:close/>
              </a:path>
              <a:path fill="darken" w="158328" h="21600">
                <a:moveTo>
                  <a:pt x="158328" y="0"/>
                </a:moveTo>
                <a:lnTo>
                  <a:pt x="158328" y="21600"/>
                </a:lnTo>
                <a:lnTo>
                  <a:pt x="156928" y="20200"/>
                </a:lnTo>
                <a:lnTo>
                  <a:pt x="156928" y="1400"/>
                </a:lnTo>
                <a:close/>
              </a:path>
              <a:path fill="darkenLess" w="158328" h="21600">
                <a:moveTo>
                  <a:pt x="158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28" y="20200"/>
                </a:lnTo>
                <a:close/>
              </a:path>
              <a:path fill="lighten" w="158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11">
            <a:hlinkClick r:id="rId3" action="ppaction://hlinksldjump"/>
          </p:cNvPr>
          <p:cNvSpPr/>
          <p:nvPr/>
        </p:nvSpPr>
        <p:spPr>
          <a:xfrm>
            <a:off x="1143000" y="4038480"/>
            <a:ext cx="5181480" cy="457200"/>
          </a:xfrm>
          <a:custGeom>
            <a:avLst/>
            <a:gdLst>
              <a:gd name="textAreaLeft" fmla="*/ 29520 w 5181480"/>
              <a:gd name="textAreaRight" fmla="*/ 5151960 w 5181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4619" h="21600">
                <a:moveTo>
                  <a:pt x="0" y="0"/>
                </a:moveTo>
                <a:lnTo>
                  <a:pt x="244619" y="0"/>
                </a:lnTo>
                <a:lnTo>
                  <a:pt x="244619" y="21600"/>
                </a:lnTo>
                <a:lnTo>
                  <a:pt x="0" y="21600"/>
                </a:lnTo>
                <a:close/>
              </a:path>
              <a:path fill="lightenLess" w="244619" h="21600">
                <a:moveTo>
                  <a:pt x="0" y="0"/>
                </a:moveTo>
                <a:lnTo>
                  <a:pt x="244619" y="0"/>
                </a:lnTo>
                <a:lnTo>
                  <a:pt x="243219" y="1400"/>
                </a:lnTo>
                <a:lnTo>
                  <a:pt x="1400" y="1400"/>
                </a:lnTo>
                <a:close/>
              </a:path>
              <a:path fill="darken" w="244619" h="21600">
                <a:moveTo>
                  <a:pt x="244619" y="0"/>
                </a:moveTo>
                <a:lnTo>
                  <a:pt x="244619" y="21600"/>
                </a:lnTo>
                <a:lnTo>
                  <a:pt x="243219" y="20200"/>
                </a:lnTo>
                <a:lnTo>
                  <a:pt x="243219" y="1400"/>
                </a:lnTo>
                <a:close/>
              </a:path>
              <a:path fill="darkenLess" w="244619" h="21600">
                <a:moveTo>
                  <a:pt x="244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19" y="20200"/>
                </a:lnTo>
                <a:close/>
              </a:path>
              <a:path fill="lighten" w="244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utoShape 12">
            <a:hlinkClick r:id="rId4" action="ppaction://hlinksldjump"/>
          </p:cNvPr>
          <p:cNvSpPr/>
          <p:nvPr/>
        </p:nvSpPr>
        <p:spPr>
          <a:xfrm>
            <a:off x="1219320" y="4800600"/>
            <a:ext cx="5257800" cy="762120"/>
          </a:xfrm>
          <a:custGeom>
            <a:avLst/>
            <a:gdLst>
              <a:gd name="textAreaLeft" fmla="*/ 49320 w 5257800"/>
              <a:gd name="textAreaRight" fmla="*/ 5208480 w 5257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8956" h="21600">
                <a:moveTo>
                  <a:pt x="0" y="0"/>
                </a:moveTo>
                <a:lnTo>
                  <a:pt x="148956" y="0"/>
                </a:lnTo>
                <a:lnTo>
                  <a:pt x="148956" y="21600"/>
                </a:lnTo>
                <a:lnTo>
                  <a:pt x="0" y="21600"/>
                </a:lnTo>
                <a:close/>
              </a:path>
              <a:path fill="lightenLess" w="148956" h="21600">
                <a:moveTo>
                  <a:pt x="0" y="0"/>
                </a:moveTo>
                <a:lnTo>
                  <a:pt x="148956" y="0"/>
                </a:lnTo>
                <a:lnTo>
                  <a:pt x="147556" y="1400"/>
                </a:lnTo>
                <a:lnTo>
                  <a:pt x="1400" y="1400"/>
                </a:lnTo>
                <a:close/>
              </a:path>
              <a:path fill="darken" w="148956" h="21600">
                <a:moveTo>
                  <a:pt x="148956" y="0"/>
                </a:moveTo>
                <a:lnTo>
                  <a:pt x="148956" y="21600"/>
                </a:lnTo>
                <a:lnTo>
                  <a:pt x="147556" y="20200"/>
                </a:lnTo>
                <a:lnTo>
                  <a:pt x="147556" y="1400"/>
                </a:lnTo>
                <a:close/>
              </a:path>
              <a:path fill="darkenLess" w="148956" h="21600">
                <a:moveTo>
                  <a:pt x="148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556" y="20200"/>
                </a:lnTo>
                <a:close/>
              </a:path>
              <a:path fill="lighten" w="148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3565440" y="659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3581280" y="5791320"/>
            <a:ext cx="221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3733920" y="556272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Click on a choice to advan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FD82EE5.WAV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04920" cy="1371600"/>
          </a:xfrm>
          <a:prstGeom prst="rect">
            <a:avLst/>
          </a:prstGeom>
          <a:ln w="0">
            <a:noFill/>
          </a:ln>
        </p:spPr>
      </p:pic>
      <p:pic>
        <p:nvPicPr>
          <p:cNvPr id="345" name="42CFDADE.WAV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6" name="8C1EF6B9.WAV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4"/>
          <a:stretch/>
        </p:blipFill>
        <p:spPr>
          <a:xfrm>
            <a:off x="914400" y="1828800"/>
            <a:ext cx="3273480" cy="36576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1" lang="en-US" sz="72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1" lang="en-US" sz="7200" spc="-1" strike="noStrike">
                <a:solidFill>
                  <a:srgbClr val="00b200"/>
                </a:solidFill>
                <a:latin typeface="Comic Sans MS"/>
              </a:rPr>
              <a:t>A</a:t>
            </a:r>
            <a:r>
              <a:rPr b="1" lang="en-US" sz="7200" spc="-1" strike="noStrike">
                <a:solidFill>
                  <a:srgbClr val="ffb800"/>
                </a:solidFill>
                <a:latin typeface="Comic Sans MS"/>
              </a:rPr>
              <a:t>V</a:t>
            </a:r>
            <a:r>
              <a:rPr b="1" lang="en-US" sz="7200" spc="-1" strike="noStrike">
                <a:solidFill>
                  <a:srgbClr val="15eb4d"/>
                </a:solidFill>
                <a:latin typeface="Comic Sans MS"/>
              </a:rPr>
              <a:t>O</a:t>
            </a:r>
            <a:r>
              <a:rPr b="1" lang="en-US" sz="7200" spc="-1" strike="noStrike">
                <a:solidFill>
                  <a:srgbClr val="333399"/>
                </a:solidFill>
                <a:latin typeface="Comic Sans MS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09800" y="14479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know what 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llustrato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ay to go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AutoShape 9">
            <a:hlinkClick r:id="rId5" action="ppaction://hlinksldjump"/>
          </p:cNvPr>
          <p:cNvSpPr/>
          <p:nvPr/>
        </p:nvSpPr>
        <p:spPr>
          <a:xfrm>
            <a:off x="2743200" y="548640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2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2" y="20200"/>
                </a:lnTo>
                <a:lnTo>
                  <a:pt x="37172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2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2" h="21600">
                <a:moveTo>
                  <a:pt x="12280" y="3794"/>
                </a:moveTo>
                <a:lnTo>
                  <a:pt x="26293" y="10800"/>
                </a:lnTo>
                <a:lnTo>
                  <a:pt x="1228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ops!  Read this again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llustrator is the person that draws the pictures in a story book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there are pictures on every page, and they tell a big part of the stor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there are just a few pictures.  The person that draws them is the illustrato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AutoShape 7">
            <a:hlinkClick r:id="rId1" action="ppaction://hlinksldjump"/>
          </p:cNvPr>
          <p:cNvSpPr/>
          <p:nvPr/>
        </p:nvSpPr>
        <p:spPr>
          <a:xfrm flipV="1">
            <a:off x="3505320" y="5485680"/>
            <a:ext cx="1752480" cy="762120"/>
          </a:xfrm>
          <a:custGeom>
            <a:avLst/>
            <a:gdLst>
              <a:gd name="textAreaLeft" fmla="*/ 49320 w 1752480"/>
              <a:gd name="textAreaRight" fmla="*/ 1703160 w 1752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56" h="21600">
                <a:moveTo>
                  <a:pt x="0" y="0"/>
                </a:moveTo>
                <a:lnTo>
                  <a:pt x="49656" y="0"/>
                </a:lnTo>
                <a:lnTo>
                  <a:pt x="49656" y="21600"/>
                </a:lnTo>
                <a:lnTo>
                  <a:pt x="0" y="21600"/>
                </a:lnTo>
                <a:close/>
              </a:path>
              <a:path fill="lightenLess" w="49656" h="21600">
                <a:moveTo>
                  <a:pt x="0" y="0"/>
                </a:moveTo>
                <a:lnTo>
                  <a:pt x="49656" y="0"/>
                </a:lnTo>
                <a:lnTo>
                  <a:pt x="48256" y="1400"/>
                </a:lnTo>
                <a:lnTo>
                  <a:pt x="1400" y="1400"/>
                </a:lnTo>
                <a:close/>
              </a:path>
              <a:path fill="darken" w="49656" h="21600">
                <a:moveTo>
                  <a:pt x="49656" y="0"/>
                </a:moveTo>
                <a:lnTo>
                  <a:pt x="49656" y="21600"/>
                </a:lnTo>
                <a:lnTo>
                  <a:pt x="48256" y="20200"/>
                </a:lnTo>
                <a:lnTo>
                  <a:pt x="48256" y="1400"/>
                </a:lnTo>
                <a:close/>
              </a:path>
              <a:path fill="darkenLess" w="49656" h="21600">
                <a:moveTo>
                  <a:pt x="49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56" y="20200"/>
                </a:lnTo>
                <a:close/>
              </a:path>
              <a:path fill="lighten" w="49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 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itle is the name of the stor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usually on the front cover of the book and on the sp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on a page call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Title P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ight before the beginning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hors usually choose the title for their book, since they write the word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AutoShape 4">
            <a:hlinkClick r:id="rId1" action="ppaction://hlinksldjump"/>
          </p:cNvPr>
          <p:cNvSpPr/>
          <p:nvPr/>
        </p:nvSpPr>
        <p:spPr>
          <a:xfrm>
            <a:off x="3657600" y="61722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87" h="21600">
                <a:moveTo>
                  <a:pt x="19387" y="3794"/>
                </a:moveTo>
                <a:lnTo>
                  <a:pt x="33400" y="10800"/>
                </a:lnTo>
                <a:lnTo>
                  <a:pt x="1938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686160" y="-360"/>
            <a:ext cx="9829800" cy="1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9" descr="spiderfly"/>
          <p:cNvPicPr/>
          <p:nvPr/>
        </p:nvPicPr>
        <p:blipFill>
          <a:blip r:embed="rId1"/>
          <a:stretch/>
        </p:blipFill>
        <p:spPr>
          <a:xfrm>
            <a:off x="990720" y="99072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043920352X"/>
          <p:cNvPicPr/>
          <p:nvPr/>
        </p:nvPicPr>
        <p:blipFill>
          <a:blip r:embed="rId2"/>
          <a:stretch/>
        </p:blipFill>
        <p:spPr>
          <a:xfrm>
            <a:off x="5334120" y="99072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0618005595"/>
          <p:cNvPicPr/>
          <p:nvPr/>
        </p:nvPicPr>
        <p:blipFill>
          <a:blip r:embed="rId3"/>
          <a:stretch/>
        </p:blipFill>
        <p:spPr>
          <a:xfrm>
            <a:off x="990720" y="3429000"/>
            <a:ext cx="2212920" cy="1600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1570612935"/>
          <p:cNvPicPr/>
          <p:nvPr/>
        </p:nvPicPr>
        <p:blipFill>
          <a:blip r:embed="rId4"/>
          <a:stretch/>
        </p:blipFill>
        <p:spPr>
          <a:xfrm>
            <a:off x="5257800" y="3276720"/>
            <a:ext cx="1903320" cy="1752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5"/>
          <p:cNvSpPr/>
          <p:nvPr/>
        </p:nvSpPr>
        <p:spPr>
          <a:xfrm>
            <a:off x="1143000" y="2819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cture bo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6"/>
          <p:cNvSpPr/>
          <p:nvPr/>
        </p:nvSpPr>
        <p:spPr>
          <a:xfrm flipH="1" flipV="1">
            <a:off x="5486400" y="2747880"/>
            <a:ext cx="147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5105520" y="2819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pter bo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9907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n-fiction (Informa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548640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ograph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1447920" y="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books from each s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21">
            <a:hlinkClick r:id="" action="ppaction://hlinkshowjump?jump=nextslide"/>
          </p:cNvPr>
          <p:cNvSpPr/>
          <p:nvPr/>
        </p:nvSpPr>
        <p:spPr>
          <a:xfrm>
            <a:off x="342900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The title (name) of this book is </a:t>
            </a:r>
            <a:br>
              <a:rPr sz="3600"/>
            </a:br>
            <a:r>
              <a:rPr b="0" i="1" lang="en-US" sz="3600" spc="-1" strike="noStrike">
                <a:solidFill>
                  <a:srgbClr val="660033"/>
                </a:solidFill>
                <a:latin typeface="Comic Sans MS"/>
              </a:rPr>
              <a:t>The Spider and the Fly</a:t>
            </a:r>
            <a:br>
              <a:rPr sz="3600"/>
            </a:b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(this is a picture of the front cov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Picture 4" descr="spiderfly"/>
          <p:cNvPicPr/>
          <p:nvPr/>
        </p:nvPicPr>
        <p:blipFill>
          <a:blip r:embed="rId1"/>
          <a:stretch/>
        </p:blipFill>
        <p:spPr>
          <a:xfrm>
            <a:off x="2362320" y="2133720"/>
            <a:ext cx="412596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7">
            <a:hlinkClick r:id="" action="ppaction://hlinkshowjump?jump=nextslide"/>
          </p:cNvPr>
          <p:cNvSpPr/>
          <p:nvPr/>
        </p:nvSpPr>
        <p:spPr>
          <a:xfrm>
            <a:off x="3581280" y="5867280"/>
            <a:ext cx="2033640" cy="990720"/>
          </a:xfrm>
          <a:custGeom>
            <a:avLst/>
            <a:gdLst>
              <a:gd name="textAreaLeft" fmla="*/ 64080 w 2033640"/>
              <a:gd name="textAreaRight" fmla="*/ 1969560 w 2033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330" h="21600">
                <a:moveTo>
                  <a:pt x="0" y="0"/>
                </a:moveTo>
                <a:lnTo>
                  <a:pt x="44330" y="0"/>
                </a:lnTo>
                <a:lnTo>
                  <a:pt x="44330" y="21600"/>
                </a:lnTo>
                <a:lnTo>
                  <a:pt x="0" y="21600"/>
                </a:lnTo>
                <a:close/>
              </a:path>
              <a:path fill="lightenLess" w="44330" h="21600">
                <a:moveTo>
                  <a:pt x="0" y="0"/>
                </a:moveTo>
                <a:lnTo>
                  <a:pt x="44330" y="0"/>
                </a:lnTo>
                <a:lnTo>
                  <a:pt x="42930" y="1400"/>
                </a:lnTo>
                <a:lnTo>
                  <a:pt x="1400" y="1400"/>
                </a:lnTo>
                <a:close/>
              </a:path>
              <a:path fill="darken" w="44330" h="21600">
                <a:moveTo>
                  <a:pt x="44330" y="0"/>
                </a:moveTo>
                <a:lnTo>
                  <a:pt x="44330" y="21600"/>
                </a:lnTo>
                <a:lnTo>
                  <a:pt x="42930" y="20200"/>
                </a:lnTo>
                <a:lnTo>
                  <a:pt x="42930" y="1400"/>
                </a:lnTo>
                <a:close/>
              </a:path>
              <a:path fill="darkenLess" w="44330" h="21600">
                <a:moveTo>
                  <a:pt x="4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30" y="20200"/>
                </a:lnTo>
                <a:close/>
              </a:path>
              <a:path fill="lighten" w="4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30" h="21600">
                <a:moveTo>
                  <a:pt x="15158" y="3794"/>
                </a:moveTo>
                <a:lnTo>
                  <a:pt x="29171" y="10800"/>
                </a:lnTo>
                <a:lnTo>
                  <a:pt x="1515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What is a title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tle is the name of the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tle is the name of the person who wrote the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tle doesn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show up on the cover or the spine of the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tle is the wrapping at the st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AutoShape 4">
            <a:hlinkClick r:id="rId1" action="ppaction://hlinksldjump"/>
          </p:cNvPr>
          <p:cNvSpPr/>
          <p:nvPr/>
        </p:nvSpPr>
        <p:spPr>
          <a:xfrm>
            <a:off x="1066680" y="1905120"/>
            <a:ext cx="6248520" cy="457200"/>
          </a:xfrm>
          <a:custGeom>
            <a:avLst/>
            <a:gdLst>
              <a:gd name="textAreaLeft" fmla="*/ 29520 w 6248520"/>
              <a:gd name="textAreaRight" fmla="*/ 6219000 w 6248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94990" h="21600">
                <a:moveTo>
                  <a:pt x="0" y="0"/>
                </a:moveTo>
                <a:lnTo>
                  <a:pt x="294990" y="0"/>
                </a:lnTo>
                <a:lnTo>
                  <a:pt x="294990" y="21600"/>
                </a:lnTo>
                <a:lnTo>
                  <a:pt x="0" y="21600"/>
                </a:lnTo>
                <a:close/>
              </a:path>
              <a:path fill="lightenLess" w="294990" h="21600">
                <a:moveTo>
                  <a:pt x="0" y="0"/>
                </a:moveTo>
                <a:lnTo>
                  <a:pt x="294990" y="0"/>
                </a:lnTo>
                <a:lnTo>
                  <a:pt x="293590" y="1400"/>
                </a:lnTo>
                <a:lnTo>
                  <a:pt x="1400" y="1400"/>
                </a:lnTo>
                <a:close/>
              </a:path>
              <a:path fill="darken" w="294990" h="21600">
                <a:moveTo>
                  <a:pt x="294990" y="0"/>
                </a:moveTo>
                <a:lnTo>
                  <a:pt x="294990" y="21600"/>
                </a:lnTo>
                <a:lnTo>
                  <a:pt x="293590" y="20200"/>
                </a:lnTo>
                <a:lnTo>
                  <a:pt x="293590" y="1400"/>
                </a:lnTo>
                <a:close/>
              </a:path>
              <a:path fill="darkenLess" w="294990" h="21600">
                <a:moveTo>
                  <a:pt x="29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90" y="20200"/>
                </a:lnTo>
                <a:close/>
              </a:path>
              <a:path fill="lighten" w="29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AutoShape 5">
            <a:hlinkClick r:id="rId2" action="ppaction://hlinksldjump"/>
          </p:cNvPr>
          <p:cNvSpPr/>
          <p:nvPr/>
        </p:nvSpPr>
        <p:spPr>
          <a:xfrm>
            <a:off x="1143000" y="2666880"/>
            <a:ext cx="6172200" cy="609840"/>
          </a:xfrm>
          <a:custGeom>
            <a:avLst/>
            <a:gdLst>
              <a:gd name="textAreaLeft" fmla="*/ 39240 w 6172200"/>
              <a:gd name="textAreaRight" fmla="*/ 6132960 w 6172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8498" h="21600">
                <a:moveTo>
                  <a:pt x="0" y="0"/>
                </a:moveTo>
                <a:lnTo>
                  <a:pt x="218498" y="0"/>
                </a:lnTo>
                <a:lnTo>
                  <a:pt x="218498" y="21600"/>
                </a:lnTo>
                <a:lnTo>
                  <a:pt x="0" y="21600"/>
                </a:lnTo>
                <a:close/>
              </a:path>
              <a:path fill="lightenLess" w="218498" h="21600">
                <a:moveTo>
                  <a:pt x="0" y="0"/>
                </a:moveTo>
                <a:lnTo>
                  <a:pt x="218498" y="0"/>
                </a:lnTo>
                <a:lnTo>
                  <a:pt x="217098" y="1400"/>
                </a:lnTo>
                <a:lnTo>
                  <a:pt x="1400" y="1400"/>
                </a:lnTo>
                <a:close/>
              </a:path>
              <a:path fill="darken" w="218498" h="21600">
                <a:moveTo>
                  <a:pt x="218498" y="0"/>
                </a:moveTo>
                <a:lnTo>
                  <a:pt x="218498" y="21600"/>
                </a:lnTo>
                <a:lnTo>
                  <a:pt x="217098" y="20200"/>
                </a:lnTo>
                <a:lnTo>
                  <a:pt x="217098" y="1400"/>
                </a:lnTo>
                <a:close/>
              </a:path>
              <a:path fill="darkenLess" w="218498" h="21600">
                <a:moveTo>
                  <a:pt x="218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8" y="20200"/>
                </a:lnTo>
                <a:close/>
              </a:path>
              <a:path fill="lighten" w="218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AutoShape 6">
            <a:hlinkClick r:id="rId3" action="ppaction://hlinksldjump"/>
          </p:cNvPr>
          <p:cNvSpPr/>
          <p:nvPr/>
        </p:nvSpPr>
        <p:spPr>
          <a:xfrm>
            <a:off x="1219320" y="3505320"/>
            <a:ext cx="5867280" cy="914400"/>
          </a:xfrm>
          <a:custGeom>
            <a:avLst/>
            <a:gdLst>
              <a:gd name="textAreaLeft" fmla="*/ 59040 w 5867280"/>
              <a:gd name="textAreaRight" fmla="*/ 5808240 w 5867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38551" h="21600">
                <a:moveTo>
                  <a:pt x="0" y="0"/>
                </a:moveTo>
                <a:lnTo>
                  <a:pt x="138551" y="0"/>
                </a:lnTo>
                <a:lnTo>
                  <a:pt x="138551" y="21600"/>
                </a:lnTo>
                <a:lnTo>
                  <a:pt x="0" y="21600"/>
                </a:lnTo>
                <a:close/>
              </a:path>
              <a:path fill="lightenLess" w="138551" h="21600">
                <a:moveTo>
                  <a:pt x="0" y="0"/>
                </a:moveTo>
                <a:lnTo>
                  <a:pt x="138551" y="0"/>
                </a:lnTo>
                <a:lnTo>
                  <a:pt x="137151" y="1400"/>
                </a:lnTo>
                <a:lnTo>
                  <a:pt x="1400" y="1400"/>
                </a:lnTo>
                <a:close/>
              </a:path>
              <a:path fill="darken" w="138551" h="21600">
                <a:moveTo>
                  <a:pt x="138551" y="0"/>
                </a:moveTo>
                <a:lnTo>
                  <a:pt x="138551" y="21600"/>
                </a:lnTo>
                <a:lnTo>
                  <a:pt x="137151" y="20200"/>
                </a:lnTo>
                <a:lnTo>
                  <a:pt x="137151" y="1400"/>
                </a:lnTo>
                <a:close/>
              </a:path>
              <a:path fill="darkenLess" w="138551" h="21600">
                <a:moveTo>
                  <a:pt x="138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151" y="20200"/>
                </a:lnTo>
                <a:close/>
              </a:path>
              <a:path fill="lighten" w="138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AutoShape 7">
            <a:hlinkClick r:id="rId4" action="ppaction://hlinksldjump"/>
          </p:cNvPr>
          <p:cNvSpPr/>
          <p:nvPr/>
        </p:nvSpPr>
        <p:spPr>
          <a:xfrm>
            <a:off x="1219320" y="4724280"/>
            <a:ext cx="5790960" cy="457200"/>
          </a:xfrm>
          <a:custGeom>
            <a:avLst/>
            <a:gdLst>
              <a:gd name="textAreaLeft" fmla="*/ 29520 w 5790960"/>
              <a:gd name="textAreaRight" fmla="*/ 5761440 w 5790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73390" h="21600">
                <a:moveTo>
                  <a:pt x="0" y="0"/>
                </a:moveTo>
                <a:lnTo>
                  <a:pt x="273390" y="0"/>
                </a:lnTo>
                <a:lnTo>
                  <a:pt x="273390" y="21600"/>
                </a:lnTo>
                <a:lnTo>
                  <a:pt x="0" y="21600"/>
                </a:lnTo>
                <a:close/>
              </a:path>
              <a:path fill="lightenLess" w="273390" h="21600">
                <a:moveTo>
                  <a:pt x="0" y="0"/>
                </a:moveTo>
                <a:lnTo>
                  <a:pt x="273390" y="0"/>
                </a:lnTo>
                <a:lnTo>
                  <a:pt x="271990" y="1400"/>
                </a:lnTo>
                <a:lnTo>
                  <a:pt x="1400" y="1400"/>
                </a:lnTo>
                <a:close/>
              </a:path>
              <a:path fill="darken" w="273390" h="21600">
                <a:moveTo>
                  <a:pt x="273390" y="0"/>
                </a:moveTo>
                <a:lnTo>
                  <a:pt x="273390" y="21600"/>
                </a:lnTo>
                <a:lnTo>
                  <a:pt x="271990" y="20200"/>
                </a:lnTo>
                <a:lnTo>
                  <a:pt x="271990" y="1400"/>
                </a:lnTo>
                <a:close/>
              </a:path>
              <a:path fill="darkenLess" w="273390" h="21600">
                <a:moveTo>
                  <a:pt x="27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990" y="20200"/>
                </a:lnTo>
                <a:close/>
              </a:path>
              <a:path fill="lighten" w="27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3733920" y="5791320"/>
            <a:ext cx="213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2819520" y="58672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2743200" y="5791320"/>
            <a:ext cx="3505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Click on choice to ans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8C1EF6B9.WAV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Great Work!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5181840" cy="36576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358B8C66.WAV" descr=""/>
          <p:cNvPicPr/>
          <p:nvPr/>
        </p:nvPicPr>
        <p:blipFill>
          <a:blip r:embed="rId3"/>
          <a:stretch/>
        </p:blipFill>
        <p:spPr>
          <a:xfrm>
            <a:off x="4419720" y="800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74" name="358B8C66.WAV" descr=""/>
          <p:cNvPicPr/>
          <p:nvPr/>
        </p:nvPicPr>
        <p:blipFill>
          <a:blip r:embed="rId4"/>
          <a:stretch/>
        </p:blipFill>
        <p:spPr>
          <a:xfrm>
            <a:off x="4343400" y="8305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75" name="358B8C66.WAV" descr=""/>
          <p:cNvPicPr/>
          <p:nvPr/>
        </p:nvPicPr>
        <p:blipFill>
          <a:blip r:embed="rId5"/>
          <a:stretch/>
        </p:blipFill>
        <p:spPr>
          <a:xfrm>
            <a:off x="4495680" y="8153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9">
            <a:hlinkClick r:id="rId6" action="ppaction://hlinksldjump"/>
          </p:cNvPr>
          <p:cNvSpPr/>
          <p:nvPr/>
        </p:nvSpPr>
        <p:spPr>
          <a:xfrm>
            <a:off x="3429000" y="5867280"/>
            <a:ext cx="1752480" cy="762120"/>
          </a:xfrm>
          <a:custGeom>
            <a:avLst/>
            <a:gdLst>
              <a:gd name="textAreaLeft" fmla="*/ 49320 w 1752480"/>
              <a:gd name="textAreaRight" fmla="*/ 1703160 w 1752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56" h="21600">
                <a:moveTo>
                  <a:pt x="0" y="0"/>
                </a:moveTo>
                <a:lnTo>
                  <a:pt x="49656" y="0"/>
                </a:lnTo>
                <a:lnTo>
                  <a:pt x="49656" y="21600"/>
                </a:lnTo>
                <a:lnTo>
                  <a:pt x="0" y="21600"/>
                </a:lnTo>
                <a:close/>
              </a:path>
              <a:path fill="lightenLess" w="49656" h="21600">
                <a:moveTo>
                  <a:pt x="0" y="0"/>
                </a:moveTo>
                <a:lnTo>
                  <a:pt x="49656" y="0"/>
                </a:lnTo>
                <a:lnTo>
                  <a:pt x="48256" y="1400"/>
                </a:lnTo>
                <a:lnTo>
                  <a:pt x="1400" y="1400"/>
                </a:lnTo>
                <a:close/>
              </a:path>
              <a:path fill="darken" w="49656" h="21600">
                <a:moveTo>
                  <a:pt x="49656" y="0"/>
                </a:moveTo>
                <a:lnTo>
                  <a:pt x="49656" y="21600"/>
                </a:lnTo>
                <a:lnTo>
                  <a:pt x="48256" y="20200"/>
                </a:lnTo>
                <a:lnTo>
                  <a:pt x="48256" y="1400"/>
                </a:lnTo>
                <a:close/>
              </a:path>
              <a:path fill="darkenLess" w="49656" h="21600">
                <a:moveTo>
                  <a:pt x="49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56" y="20200"/>
                </a:lnTo>
                <a:close/>
              </a:path>
              <a:path fill="lighten" w="49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56" h="21600">
                <a:moveTo>
                  <a:pt x="17821" y="3794"/>
                </a:moveTo>
                <a:lnTo>
                  <a:pt x="31834" y="10800"/>
                </a:lnTo>
                <a:lnTo>
                  <a:pt x="1782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learned five book parts and words about book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72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p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uth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llustrat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AutoShape 4">
            <a:hlinkClick r:id="" action="ppaction://hlinkshowjump?jump=nextslide"/>
          </p:cNvPr>
          <p:cNvSpPr/>
          <p:nvPr/>
        </p:nvSpPr>
        <p:spPr>
          <a:xfrm>
            <a:off x="396252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13610" y="3794"/>
                </a:moveTo>
                <a:lnTo>
                  <a:pt x="27623" y="10800"/>
                </a:lnTo>
                <a:lnTo>
                  <a:pt x="1361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1" name="Picture 7" descr="j0290702[1]"/>
          <p:cNvPicPr/>
          <p:nvPr/>
        </p:nvPicPr>
        <p:blipFill>
          <a:blip r:embed="rId1"/>
          <a:stretch/>
        </p:blipFill>
        <p:spPr>
          <a:xfrm>
            <a:off x="5037120" y="2813040"/>
            <a:ext cx="291636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gratulations!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is is the end of part one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Give yourself a pat on the back and a </a:t>
            </a:r>
            <a:r>
              <a:rPr b="0" lang="ja-JP" sz="4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ound</a:t>
            </a:r>
            <a:r>
              <a:rPr b="0" lang="ja-JP" sz="40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of library applause!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break and tell your classmates and teacher what you learned today, then you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will be ready to start section tw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AutoShape 11">
            <a:hlinkClick r:id="rId1" action="ppaction://hlinksldjump"/>
          </p:cNvPr>
          <p:cNvSpPr/>
          <p:nvPr/>
        </p:nvSpPr>
        <p:spPr>
          <a:xfrm>
            <a:off x="1828800" y="5638680"/>
            <a:ext cx="2362320" cy="762120"/>
          </a:xfrm>
          <a:custGeom>
            <a:avLst/>
            <a:gdLst>
              <a:gd name="textAreaLeft" fmla="*/ 49320 w 2362320"/>
              <a:gd name="textAreaRight" fmla="*/ 2313000 w 2362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32" y="1400"/>
                </a:lnTo>
                <a:lnTo>
                  <a:pt x="1400" y="140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32" y="20200"/>
                </a:lnTo>
                <a:lnTo>
                  <a:pt x="65532" y="140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32" y="2020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part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AutoShape 13">
            <a:hlinkClick r:id="" action="ppaction://hlinkshowjump?jump=firstslide"/>
          </p:cNvPr>
          <p:cNvSpPr/>
          <p:nvPr/>
        </p:nvSpPr>
        <p:spPr>
          <a:xfrm>
            <a:off x="4648320" y="5638680"/>
            <a:ext cx="2361960" cy="762120"/>
          </a:xfrm>
          <a:custGeom>
            <a:avLst/>
            <a:gdLst>
              <a:gd name="textAreaLeft" fmla="*/ 49320 w 2361960"/>
              <a:gd name="textAreaRight" fmla="*/ 2312640 w 2361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921" h="21600">
                <a:moveTo>
                  <a:pt x="33461" y="3837"/>
                </a:moveTo>
                <a:lnTo>
                  <a:pt x="36037" y="6448"/>
                </a:lnTo>
                <a:lnTo>
                  <a:pt x="36037" y="4707"/>
                </a:lnTo>
                <a:lnTo>
                  <a:pt x="37812" y="4707"/>
                </a:lnTo>
                <a:lnTo>
                  <a:pt x="37812" y="8224"/>
                </a:lnTo>
                <a:lnTo>
                  <a:pt x="40424" y="10800"/>
                </a:lnTo>
                <a:lnTo>
                  <a:pt x="38770" y="10800"/>
                </a:lnTo>
                <a:lnTo>
                  <a:pt x="38770" y="17989"/>
                </a:lnTo>
                <a:lnTo>
                  <a:pt x="28151" y="17989"/>
                </a:lnTo>
                <a:lnTo>
                  <a:pt x="28151" y="10800"/>
                </a:lnTo>
                <a:lnTo>
                  <a:pt x="26498" y="10800"/>
                </a:lnTo>
                <a:close/>
              </a:path>
              <a:path fill="darkenLess" w="66921" h="21600">
                <a:moveTo>
                  <a:pt x="36037" y="6448"/>
                </a:moveTo>
                <a:lnTo>
                  <a:pt x="36037" y="4707"/>
                </a:lnTo>
                <a:lnTo>
                  <a:pt x="37812" y="4707"/>
                </a:lnTo>
                <a:lnTo>
                  <a:pt x="37812" y="8224"/>
                </a:lnTo>
                <a:close/>
              </a:path>
              <a:path fill="darkenLess" w="66921" h="21600">
                <a:moveTo>
                  <a:pt x="32538" y="14299"/>
                </a:moveTo>
                <a:lnTo>
                  <a:pt x="34383" y="14299"/>
                </a:lnTo>
                <a:lnTo>
                  <a:pt x="34383" y="17989"/>
                </a:lnTo>
                <a:lnTo>
                  <a:pt x="38770" y="17989"/>
                </a:lnTo>
                <a:lnTo>
                  <a:pt x="38770" y="10800"/>
                </a:lnTo>
                <a:lnTo>
                  <a:pt x="28151" y="10800"/>
                </a:lnTo>
                <a:lnTo>
                  <a:pt x="28151" y="17989"/>
                </a:lnTo>
                <a:lnTo>
                  <a:pt x="32538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ops!  Read again to learn about the tit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the name of the s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on a page call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Title P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ight before the beginning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itle is usually on the front cover of the book and on the sp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AutoShape 4">
            <a:hlinkClick r:id="rId1" action="ppaction://hlinksldjump"/>
          </p:cNvPr>
          <p:cNvSpPr/>
          <p:nvPr/>
        </p:nvSpPr>
        <p:spPr>
          <a:xfrm>
            <a:off x="358128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 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 th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 it</a:t>
            </a: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time to talk about the parts of your library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ibrary in your school is arranged in four secti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body (Picture Books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ction (Chapter Book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fiction (Information Book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gra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AutoShape 4">
            <a:hlinkClick r:id="" action="ppaction://hlinkshowjump?jump=nextslide"/>
          </p:cNvPr>
          <p:cNvSpPr/>
          <p:nvPr/>
        </p:nvSpPr>
        <p:spPr>
          <a:xfrm>
            <a:off x="3733920" y="5715000"/>
            <a:ext cx="1805040" cy="1143000"/>
          </a:xfrm>
          <a:custGeom>
            <a:avLst/>
            <a:gdLst>
              <a:gd name="textAreaLeft" fmla="*/ 73800 w 1805040"/>
              <a:gd name="textAreaRight" fmla="*/ 1731240 w 1805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107" h="21600">
                <a:moveTo>
                  <a:pt x="0" y="0"/>
                </a:moveTo>
                <a:lnTo>
                  <a:pt x="34107" y="0"/>
                </a:lnTo>
                <a:lnTo>
                  <a:pt x="34107" y="21600"/>
                </a:lnTo>
                <a:lnTo>
                  <a:pt x="0" y="21600"/>
                </a:lnTo>
                <a:close/>
              </a:path>
              <a:path fill="lightenLess" w="34107" h="21600">
                <a:moveTo>
                  <a:pt x="0" y="0"/>
                </a:moveTo>
                <a:lnTo>
                  <a:pt x="34107" y="0"/>
                </a:lnTo>
                <a:lnTo>
                  <a:pt x="32707" y="1400"/>
                </a:lnTo>
                <a:lnTo>
                  <a:pt x="1400" y="1400"/>
                </a:lnTo>
                <a:close/>
              </a:path>
              <a:path fill="darken" w="34107" h="21600">
                <a:moveTo>
                  <a:pt x="34107" y="0"/>
                </a:moveTo>
                <a:lnTo>
                  <a:pt x="34107" y="21600"/>
                </a:lnTo>
                <a:lnTo>
                  <a:pt x="32707" y="20200"/>
                </a:lnTo>
                <a:lnTo>
                  <a:pt x="32707" y="1400"/>
                </a:lnTo>
                <a:close/>
              </a:path>
              <a:path fill="darkenLess" w="34107" h="21600">
                <a:moveTo>
                  <a:pt x="34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07" y="20200"/>
                </a:lnTo>
                <a:close/>
              </a:path>
              <a:path fill="lighten" w="34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07" h="21600">
                <a:moveTo>
                  <a:pt x="10047" y="3794"/>
                </a:moveTo>
                <a:lnTo>
                  <a:pt x="24060" y="10800"/>
                </a:lnTo>
                <a:lnTo>
                  <a:pt x="1004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 Book S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section is call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ictu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3" name="Picture 9" descr="0761315357"/>
          <p:cNvPicPr/>
          <p:nvPr/>
        </p:nvPicPr>
        <p:blipFill>
          <a:blip r:embed="rId1"/>
          <a:stretch/>
        </p:blipFill>
        <p:spPr>
          <a:xfrm>
            <a:off x="5410080" y="25146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10">
            <a:hlinkClick r:id="" action="ppaction://hlinkshowjump?jump=nextslide"/>
          </p:cNvPr>
          <p:cNvSpPr/>
          <p:nvPr/>
        </p:nvSpPr>
        <p:spPr>
          <a:xfrm>
            <a:off x="3657600" y="5791320"/>
            <a:ext cx="1981080" cy="1042920"/>
          </a:xfrm>
          <a:custGeom>
            <a:avLst/>
            <a:gdLst>
              <a:gd name="textAreaLeft" fmla="*/ 67320 w 1981080"/>
              <a:gd name="textAreaRight" fmla="*/ 1913760 w 19810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41024" h="21600">
                <a:moveTo>
                  <a:pt x="0" y="0"/>
                </a:moveTo>
                <a:lnTo>
                  <a:pt x="41024" y="0"/>
                </a:lnTo>
                <a:lnTo>
                  <a:pt x="41024" y="21600"/>
                </a:lnTo>
                <a:lnTo>
                  <a:pt x="0" y="21600"/>
                </a:lnTo>
                <a:close/>
              </a:path>
              <a:path fill="lightenLess" w="41024" h="21600">
                <a:moveTo>
                  <a:pt x="0" y="0"/>
                </a:moveTo>
                <a:lnTo>
                  <a:pt x="41024" y="0"/>
                </a:lnTo>
                <a:lnTo>
                  <a:pt x="39624" y="1400"/>
                </a:lnTo>
                <a:lnTo>
                  <a:pt x="1400" y="1400"/>
                </a:lnTo>
                <a:close/>
              </a:path>
              <a:path fill="darken" w="41024" h="21600">
                <a:moveTo>
                  <a:pt x="41024" y="0"/>
                </a:moveTo>
                <a:lnTo>
                  <a:pt x="41024" y="21600"/>
                </a:lnTo>
                <a:lnTo>
                  <a:pt x="39624" y="20200"/>
                </a:lnTo>
                <a:lnTo>
                  <a:pt x="39624" y="1400"/>
                </a:lnTo>
                <a:close/>
              </a:path>
              <a:path fill="darkenLess" w="41024" h="21600">
                <a:moveTo>
                  <a:pt x="41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4" y="20200"/>
                </a:lnTo>
                <a:close/>
              </a:path>
              <a:path fill="lighten" w="41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4" h="21600">
                <a:moveTo>
                  <a:pt x="13505" y="3794"/>
                </a:moveTo>
                <a:lnTo>
                  <a:pt x="27518" y="10800"/>
                </a:lnTo>
                <a:lnTo>
                  <a:pt x="1350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cture books use illustrations (pictures) to tell lots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llustrations in picture books sometimes tell different parts of the story than the words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lustrations are very, very important in picture books.  Sometimes they are even more important than the word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cture books are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de-up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ories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the authors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magin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AutoShape 4">
            <a:hlinkClick r:id="" action="ppaction://hlinkshowjump?jump=nextslide"/>
          </p:cNvPr>
          <p:cNvSpPr/>
          <p:nvPr/>
        </p:nvSpPr>
        <p:spPr>
          <a:xfrm>
            <a:off x="3886200" y="5867280"/>
            <a:ext cx="1576440" cy="1043280"/>
          </a:xfrm>
          <a:custGeom>
            <a:avLst/>
            <a:gdLst>
              <a:gd name="textAreaLeft" fmla="*/ 67320 w 1576440"/>
              <a:gd name="textAreaRight" fmla="*/ 1509120 w 157644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32635" h="21600">
                <a:moveTo>
                  <a:pt x="0" y="0"/>
                </a:moveTo>
                <a:lnTo>
                  <a:pt x="32635" y="0"/>
                </a:lnTo>
                <a:lnTo>
                  <a:pt x="32635" y="21600"/>
                </a:lnTo>
                <a:lnTo>
                  <a:pt x="0" y="21600"/>
                </a:lnTo>
                <a:close/>
              </a:path>
              <a:path fill="lightenLess" w="32635" h="21600">
                <a:moveTo>
                  <a:pt x="0" y="0"/>
                </a:moveTo>
                <a:lnTo>
                  <a:pt x="32635" y="0"/>
                </a:lnTo>
                <a:lnTo>
                  <a:pt x="31235" y="1400"/>
                </a:lnTo>
                <a:lnTo>
                  <a:pt x="1400" y="1400"/>
                </a:lnTo>
                <a:close/>
              </a:path>
              <a:path fill="darken" w="32635" h="21600">
                <a:moveTo>
                  <a:pt x="32635" y="0"/>
                </a:moveTo>
                <a:lnTo>
                  <a:pt x="32635" y="21600"/>
                </a:lnTo>
                <a:lnTo>
                  <a:pt x="31235" y="20200"/>
                </a:lnTo>
                <a:lnTo>
                  <a:pt x="31235" y="1400"/>
                </a:lnTo>
                <a:close/>
              </a:path>
              <a:path fill="darkenLess" w="32635" h="21600">
                <a:moveTo>
                  <a:pt x="32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5" y="20200"/>
                </a:lnTo>
                <a:close/>
              </a:path>
              <a:path fill="lighten" w="32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35" h="21600">
                <a:moveTo>
                  <a:pt x="9311" y="3794"/>
                </a:moveTo>
                <a:lnTo>
                  <a:pt x="23324" y="10800"/>
                </a:lnTo>
                <a:lnTo>
                  <a:pt x="931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 book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a made-up story with lots of pictures.  The pictures are a very important part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0" name="Picture 9" descr="0316110167-resized200"/>
          <p:cNvPicPr/>
          <p:nvPr/>
        </p:nvPicPr>
        <p:blipFill>
          <a:blip r:embed="rId1"/>
          <a:stretch/>
        </p:blipFill>
        <p:spPr>
          <a:xfrm>
            <a:off x="4876920" y="2286000"/>
            <a:ext cx="2762280" cy="29718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0">
            <a:hlinkClick r:id="" action="ppaction://hlinkshowjump?jump=nextslide"/>
          </p:cNvPr>
          <p:cNvSpPr/>
          <p:nvPr/>
        </p:nvSpPr>
        <p:spPr>
          <a:xfrm>
            <a:off x="358128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s of a book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book in the library has many parts.   You will learn five parts and words today: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n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lustrat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10">
            <a:hlinkClick r:id="" action="ppaction://hlinkshowjump?jump=nextslide"/>
          </p:cNvPr>
          <p:cNvSpPr/>
          <p:nvPr/>
        </p:nvSpPr>
        <p:spPr>
          <a:xfrm>
            <a:off x="4038480" y="5715000"/>
            <a:ext cx="1295640" cy="76212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14" h="21600">
                <a:moveTo>
                  <a:pt x="0" y="0"/>
                </a:moveTo>
                <a:lnTo>
                  <a:pt x="36714" y="0"/>
                </a:lnTo>
                <a:lnTo>
                  <a:pt x="36714" y="21600"/>
                </a:lnTo>
                <a:lnTo>
                  <a:pt x="0" y="21600"/>
                </a:lnTo>
                <a:close/>
              </a:path>
              <a:path fill="lightenLess" w="36714" h="21600">
                <a:moveTo>
                  <a:pt x="0" y="0"/>
                </a:moveTo>
                <a:lnTo>
                  <a:pt x="36714" y="0"/>
                </a:lnTo>
                <a:lnTo>
                  <a:pt x="35314" y="1400"/>
                </a:lnTo>
                <a:lnTo>
                  <a:pt x="1400" y="1400"/>
                </a:lnTo>
                <a:close/>
              </a:path>
              <a:path fill="darken" w="36714" h="21600">
                <a:moveTo>
                  <a:pt x="36714" y="0"/>
                </a:moveTo>
                <a:lnTo>
                  <a:pt x="36714" y="21600"/>
                </a:lnTo>
                <a:lnTo>
                  <a:pt x="35314" y="20200"/>
                </a:lnTo>
                <a:lnTo>
                  <a:pt x="35314" y="1400"/>
                </a:lnTo>
                <a:close/>
              </a:path>
              <a:path fill="darkenLess" w="36714" h="21600">
                <a:moveTo>
                  <a:pt x="3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4" y="20200"/>
                </a:lnTo>
                <a:close/>
              </a:path>
              <a:path fill="lighten" w="3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4" h="21600">
                <a:moveTo>
                  <a:pt x="11350" y="3794"/>
                </a:moveTo>
                <a:lnTo>
                  <a:pt x="25363" y="10800"/>
                </a:lnTo>
                <a:lnTo>
                  <a:pt x="1135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0066"/>
                </a:solidFill>
                <a:latin typeface="Comic Sans MS"/>
              </a:rPr>
              <a:t>Be sure to choose the BEST answer!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~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What is a picture book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A picture book has very few illustrations in 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 picture book tells lots of the story with pictur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Sometimes the illustrations aren</a:t>
            </a:r>
            <a:r>
              <a:rPr b="0" lang="ja-JP" sz="3200" spc="-1" strike="noStrike">
                <a:solidFill>
                  <a:srgbClr val="00cc66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t  important in a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the answers are r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5">
            <a:hlinkClick r:id="rId1" action="ppaction://hlinksldjump"/>
          </p:cNvPr>
          <p:cNvSpPr/>
          <p:nvPr/>
        </p:nvSpPr>
        <p:spPr>
          <a:xfrm>
            <a:off x="1219320" y="1905120"/>
            <a:ext cx="5715000" cy="457200"/>
          </a:xfrm>
          <a:custGeom>
            <a:avLst/>
            <a:gdLst>
              <a:gd name="textAreaLeft" fmla="*/ 29520 w 5715000"/>
              <a:gd name="textAreaRight" fmla="*/ 5685480 w 5715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69805" h="21600">
                <a:moveTo>
                  <a:pt x="0" y="0"/>
                </a:moveTo>
                <a:lnTo>
                  <a:pt x="269805" y="0"/>
                </a:lnTo>
                <a:lnTo>
                  <a:pt x="269805" y="21600"/>
                </a:lnTo>
                <a:lnTo>
                  <a:pt x="0" y="21600"/>
                </a:lnTo>
                <a:close/>
              </a:path>
              <a:path fill="lightenLess" w="269805" h="21600">
                <a:moveTo>
                  <a:pt x="0" y="0"/>
                </a:moveTo>
                <a:lnTo>
                  <a:pt x="269805" y="0"/>
                </a:lnTo>
                <a:lnTo>
                  <a:pt x="268405" y="1400"/>
                </a:lnTo>
                <a:lnTo>
                  <a:pt x="1400" y="1400"/>
                </a:lnTo>
                <a:close/>
              </a:path>
              <a:path fill="darken" w="269805" h="21600">
                <a:moveTo>
                  <a:pt x="269805" y="0"/>
                </a:moveTo>
                <a:lnTo>
                  <a:pt x="269805" y="21600"/>
                </a:lnTo>
                <a:lnTo>
                  <a:pt x="268405" y="20200"/>
                </a:lnTo>
                <a:lnTo>
                  <a:pt x="268405" y="1400"/>
                </a:lnTo>
                <a:close/>
              </a:path>
              <a:path fill="darkenLess" w="269805" h="21600">
                <a:moveTo>
                  <a:pt x="269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05" y="20200"/>
                </a:lnTo>
                <a:close/>
              </a:path>
              <a:path fill="lighten" w="269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AutoShape 6">
            <a:hlinkClick r:id="rId2" action="ppaction://hlinksldjump"/>
          </p:cNvPr>
          <p:cNvSpPr/>
          <p:nvPr/>
        </p:nvSpPr>
        <p:spPr>
          <a:xfrm>
            <a:off x="1219320" y="2819520"/>
            <a:ext cx="5638680" cy="914400"/>
          </a:xfrm>
          <a:custGeom>
            <a:avLst/>
            <a:gdLst>
              <a:gd name="textAreaLeft" fmla="*/ 59040 w 5638680"/>
              <a:gd name="textAreaRight" fmla="*/ 5579640 w 5638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33153" h="21600">
                <a:moveTo>
                  <a:pt x="0" y="0"/>
                </a:moveTo>
                <a:lnTo>
                  <a:pt x="133153" y="0"/>
                </a:lnTo>
                <a:lnTo>
                  <a:pt x="133153" y="21600"/>
                </a:lnTo>
                <a:lnTo>
                  <a:pt x="0" y="21600"/>
                </a:lnTo>
                <a:close/>
              </a:path>
              <a:path fill="lightenLess" w="133153" h="21600">
                <a:moveTo>
                  <a:pt x="0" y="0"/>
                </a:moveTo>
                <a:lnTo>
                  <a:pt x="133153" y="0"/>
                </a:lnTo>
                <a:lnTo>
                  <a:pt x="131753" y="1400"/>
                </a:lnTo>
                <a:lnTo>
                  <a:pt x="1400" y="1400"/>
                </a:lnTo>
                <a:close/>
              </a:path>
              <a:path fill="darken" w="133153" h="21600">
                <a:moveTo>
                  <a:pt x="133153" y="0"/>
                </a:moveTo>
                <a:lnTo>
                  <a:pt x="133153" y="21600"/>
                </a:lnTo>
                <a:lnTo>
                  <a:pt x="131753" y="20200"/>
                </a:lnTo>
                <a:lnTo>
                  <a:pt x="131753" y="1400"/>
                </a:lnTo>
                <a:close/>
              </a:path>
              <a:path fill="darkenLess" w="133153" h="21600">
                <a:moveTo>
                  <a:pt x="133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753" y="20200"/>
                </a:lnTo>
                <a:close/>
              </a:path>
              <a:path fill="lighten" w="133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AutoShape 7">
            <a:hlinkClick r:id="" action="ppaction://hlinkshowjump?jump=nextslide"/>
          </p:cNvPr>
          <p:cNvSpPr/>
          <p:nvPr/>
        </p:nvSpPr>
        <p:spPr>
          <a:xfrm>
            <a:off x="1143000" y="3809880"/>
            <a:ext cx="5715000" cy="914400"/>
          </a:xfrm>
          <a:custGeom>
            <a:avLst/>
            <a:gdLst>
              <a:gd name="textAreaLeft" fmla="*/ 59040 w 5715000"/>
              <a:gd name="textAreaRight" fmla="*/ 5655960 w 5715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34955" h="21600">
                <a:moveTo>
                  <a:pt x="0" y="0"/>
                </a:moveTo>
                <a:lnTo>
                  <a:pt x="134955" y="0"/>
                </a:lnTo>
                <a:lnTo>
                  <a:pt x="134955" y="21600"/>
                </a:lnTo>
                <a:lnTo>
                  <a:pt x="0" y="21600"/>
                </a:lnTo>
                <a:close/>
              </a:path>
              <a:path fill="lightenLess" w="134955" h="21600">
                <a:moveTo>
                  <a:pt x="0" y="0"/>
                </a:moveTo>
                <a:lnTo>
                  <a:pt x="134955" y="0"/>
                </a:lnTo>
                <a:lnTo>
                  <a:pt x="133555" y="1400"/>
                </a:lnTo>
                <a:lnTo>
                  <a:pt x="1400" y="1400"/>
                </a:lnTo>
                <a:close/>
              </a:path>
              <a:path fill="darken" w="134955" h="21600">
                <a:moveTo>
                  <a:pt x="134955" y="0"/>
                </a:moveTo>
                <a:lnTo>
                  <a:pt x="134955" y="21600"/>
                </a:lnTo>
                <a:lnTo>
                  <a:pt x="133555" y="20200"/>
                </a:lnTo>
                <a:lnTo>
                  <a:pt x="133555" y="1400"/>
                </a:lnTo>
                <a:close/>
              </a:path>
              <a:path fill="darkenLess" w="134955" h="21600">
                <a:moveTo>
                  <a:pt x="134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55" y="20200"/>
                </a:lnTo>
                <a:close/>
              </a:path>
              <a:path fill="lighten" w="134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AutoShape 8">
            <a:hlinkClick r:id="rId3" action="ppaction://hlinksldjump"/>
          </p:cNvPr>
          <p:cNvSpPr/>
          <p:nvPr/>
        </p:nvSpPr>
        <p:spPr>
          <a:xfrm>
            <a:off x="1219320" y="4419720"/>
            <a:ext cx="5486400" cy="304560"/>
          </a:xfrm>
          <a:custGeom>
            <a:avLst/>
            <a:gdLst>
              <a:gd name="textAreaLeft" fmla="*/ 19440 w 5486400"/>
              <a:gd name="textAreaRight" fmla="*/ 5466960 w 54864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88672" h="21600">
                <a:moveTo>
                  <a:pt x="0" y="0"/>
                </a:moveTo>
                <a:lnTo>
                  <a:pt x="388672" y="0"/>
                </a:lnTo>
                <a:lnTo>
                  <a:pt x="388672" y="21600"/>
                </a:lnTo>
                <a:lnTo>
                  <a:pt x="0" y="21600"/>
                </a:lnTo>
                <a:close/>
              </a:path>
              <a:path fill="lightenLess" w="388672" h="21600">
                <a:moveTo>
                  <a:pt x="0" y="0"/>
                </a:moveTo>
                <a:lnTo>
                  <a:pt x="388672" y="0"/>
                </a:lnTo>
                <a:lnTo>
                  <a:pt x="387273" y="1400"/>
                </a:lnTo>
                <a:lnTo>
                  <a:pt x="1400" y="1400"/>
                </a:lnTo>
                <a:close/>
              </a:path>
              <a:path fill="darken" w="388672" h="21600">
                <a:moveTo>
                  <a:pt x="388672" y="0"/>
                </a:moveTo>
                <a:lnTo>
                  <a:pt x="388672" y="21600"/>
                </a:lnTo>
                <a:lnTo>
                  <a:pt x="387273" y="20200"/>
                </a:lnTo>
                <a:lnTo>
                  <a:pt x="387273" y="1400"/>
                </a:lnTo>
                <a:close/>
              </a:path>
              <a:path fill="darkenLess" w="388672" h="21600">
                <a:moveTo>
                  <a:pt x="388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73" y="20200"/>
                </a:lnTo>
                <a:close/>
              </a:path>
              <a:path fill="lighten" w="388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AutoShape 9">
            <a:hlinkClick r:id="rId4" action="ppaction://hlinksldjump"/>
          </p:cNvPr>
          <p:cNvSpPr/>
          <p:nvPr/>
        </p:nvSpPr>
        <p:spPr>
          <a:xfrm>
            <a:off x="1143000" y="4952880"/>
            <a:ext cx="5562720" cy="457200"/>
          </a:xfrm>
          <a:custGeom>
            <a:avLst/>
            <a:gdLst>
              <a:gd name="textAreaLeft" fmla="*/ 29520 w 5562720"/>
              <a:gd name="textAreaRight" fmla="*/ 5533200 w 5562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62616" h="21600">
                <a:moveTo>
                  <a:pt x="0" y="0"/>
                </a:moveTo>
                <a:lnTo>
                  <a:pt x="262616" y="0"/>
                </a:lnTo>
                <a:lnTo>
                  <a:pt x="262616" y="21600"/>
                </a:lnTo>
                <a:lnTo>
                  <a:pt x="0" y="21600"/>
                </a:lnTo>
                <a:close/>
              </a:path>
              <a:path fill="lightenLess" w="262616" h="21600">
                <a:moveTo>
                  <a:pt x="0" y="0"/>
                </a:moveTo>
                <a:lnTo>
                  <a:pt x="262616" y="0"/>
                </a:lnTo>
                <a:lnTo>
                  <a:pt x="261216" y="1400"/>
                </a:lnTo>
                <a:lnTo>
                  <a:pt x="1400" y="1400"/>
                </a:lnTo>
                <a:close/>
              </a:path>
              <a:path fill="darken" w="262616" h="21600">
                <a:moveTo>
                  <a:pt x="262616" y="0"/>
                </a:moveTo>
                <a:lnTo>
                  <a:pt x="262616" y="21600"/>
                </a:lnTo>
                <a:lnTo>
                  <a:pt x="261216" y="20200"/>
                </a:lnTo>
                <a:lnTo>
                  <a:pt x="261216" y="1400"/>
                </a:lnTo>
                <a:close/>
              </a:path>
              <a:path fill="darkenLess" w="262616" h="21600">
                <a:moveTo>
                  <a:pt x="262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216" y="20200"/>
                </a:lnTo>
                <a:close/>
              </a:path>
              <a:path fill="lighten" w="262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1905120" y="6019920"/>
            <a:ext cx="4952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Click the choice that is the BEST ans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read this and 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ai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Picture books use illustrations (pictures) to tell lots of the st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llustrations are very, very important in picture books.  Sometimes they are even more important than the word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Picture books are </a:t>
            </a:r>
            <a:r>
              <a:rPr b="0" lang="ja-JP" sz="3200" spc="-1" strike="noStrike">
                <a:solidFill>
                  <a:srgbClr val="cc0066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made-up</a:t>
            </a:r>
            <a:r>
              <a:rPr b="0" lang="ja-JP" sz="32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 stories from  the authors</a:t>
            </a:r>
            <a:r>
              <a:rPr b="0" lang="ja-JP" sz="32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 imagin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276720" y="5815080"/>
            <a:ext cx="2361960" cy="1042920"/>
          </a:xfrm>
          <a:custGeom>
            <a:avLst/>
            <a:gdLst>
              <a:gd name="textAreaLeft" fmla="*/ 67320 w 2361960"/>
              <a:gd name="textAreaRight" fmla="*/ 2294640 w 2361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48909" h="21600">
                <a:moveTo>
                  <a:pt x="0" y="0"/>
                </a:moveTo>
                <a:lnTo>
                  <a:pt x="48909" y="0"/>
                </a:lnTo>
                <a:lnTo>
                  <a:pt x="48909" y="21600"/>
                </a:lnTo>
                <a:lnTo>
                  <a:pt x="0" y="21600"/>
                </a:lnTo>
                <a:close/>
              </a:path>
              <a:path fill="lightenLess" w="48909" h="21600">
                <a:moveTo>
                  <a:pt x="0" y="0"/>
                </a:moveTo>
                <a:lnTo>
                  <a:pt x="48909" y="0"/>
                </a:lnTo>
                <a:lnTo>
                  <a:pt x="47509" y="1400"/>
                </a:lnTo>
                <a:lnTo>
                  <a:pt x="1400" y="1400"/>
                </a:lnTo>
                <a:close/>
              </a:path>
              <a:path fill="darken" w="48909" h="21600">
                <a:moveTo>
                  <a:pt x="48909" y="0"/>
                </a:moveTo>
                <a:lnTo>
                  <a:pt x="48909" y="21600"/>
                </a:lnTo>
                <a:lnTo>
                  <a:pt x="47509" y="20200"/>
                </a:lnTo>
                <a:lnTo>
                  <a:pt x="47509" y="1400"/>
                </a:lnTo>
                <a:close/>
              </a:path>
              <a:path fill="darkenLess" w="48909" h="21600">
                <a:moveTo>
                  <a:pt x="48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09" y="20200"/>
                </a:lnTo>
                <a:close/>
              </a:path>
              <a:path fill="lighten" w="48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f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DB4AD5A5.WAV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401400" cy="9144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You know it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y, Very Goo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6" name="Picture 5" descr="SO00285_[1]"/>
          <p:cNvPicPr/>
          <p:nvPr/>
        </p:nvPicPr>
        <p:blipFill>
          <a:blip r:embed="rId2"/>
          <a:stretch/>
        </p:blipFill>
        <p:spPr>
          <a:xfrm>
            <a:off x="4876920" y="2209680"/>
            <a:ext cx="3276360" cy="304812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">
            <a:hlinkClick r:id="" action="ppaction://hlinkshowjump?jump=nextslide"/>
          </p:cNvPr>
          <p:cNvSpPr/>
          <p:nvPr/>
        </p:nvSpPr>
        <p:spPr>
          <a:xfrm>
            <a:off x="3886200" y="556272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22303" y="10800"/>
                </a:lnTo>
                <a:lnTo>
                  <a:pt x="829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apter Book S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section is calle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pte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ks.  This section is fic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0" name="Picture 9" descr="043920352X"/>
          <p:cNvPicPr/>
          <p:nvPr/>
        </p:nvPicPr>
        <p:blipFill>
          <a:blip r:embed="rId1"/>
          <a:stretch/>
        </p:blipFill>
        <p:spPr>
          <a:xfrm>
            <a:off x="1488960" y="2057400"/>
            <a:ext cx="2549520" cy="32004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10">
            <a:hlinkClick r:id="" action="ppaction://hlinkshowjump?jump=nextslide"/>
          </p:cNvPr>
          <p:cNvSpPr/>
          <p:nvPr/>
        </p:nvSpPr>
        <p:spPr>
          <a:xfrm>
            <a:off x="3276720" y="5815080"/>
            <a:ext cx="1500120" cy="1042920"/>
          </a:xfrm>
          <a:custGeom>
            <a:avLst/>
            <a:gdLst>
              <a:gd name="textAreaLeft" fmla="*/ 67320 w 1500120"/>
              <a:gd name="textAreaRight" fmla="*/ 1432800 w 1500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1066" h="21600">
                <a:moveTo>
                  <a:pt x="0" y="0"/>
                </a:moveTo>
                <a:lnTo>
                  <a:pt x="31066" y="0"/>
                </a:lnTo>
                <a:lnTo>
                  <a:pt x="31066" y="21600"/>
                </a:lnTo>
                <a:lnTo>
                  <a:pt x="0" y="21600"/>
                </a:lnTo>
                <a:close/>
              </a:path>
              <a:path fill="lightenLess" w="31066" h="21600">
                <a:moveTo>
                  <a:pt x="0" y="0"/>
                </a:moveTo>
                <a:lnTo>
                  <a:pt x="31066" y="0"/>
                </a:lnTo>
                <a:lnTo>
                  <a:pt x="29666" y="1400"/>
                </a:lnTo>
                <a:lnTo>
                  <a:pt x="1400" y="1400"/>
                </a:lnTo>
                <a:close/>
              </a:path>
              <a:path fill="darken" w="31066" h="21600">
                <a:moveTo>
                  <a:pt x="31066" y="0"/>
                </a:moveTo>
                <a:lnTo>
                  <a:pt x="31066" y="21600"/>
                </a:lnTo>
                <a:lnTo>
                  <a:pt x="29666" y="20200"/>
                </a:lnTo>
                <a:lnTo>
                  <a:pt x="29666" y="1400"/>
                </a:lnTo>
                <a:close/>
              </a:path>
              <a:path fill="darkenLess" w="31066" h="21600">
                <a:moveTo>
                  <a:pt x="31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66" y="20200"/>
                </a:lnTo>
                <a:close/>
              </a:path>
              <a:path fill="lighten" w="31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66" h="21600">
                <a:moveTo>
                  <a:pt x="8526" y="3794"/>
                </a:moveTo>
                <a:lnTo>
                  <a:pt x="22539" y="10800"/>
                </a:lnTo>
                <a:lnTo>
                  <a:pt x="852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Book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Books usually have more words than picture books, and fewer picture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chapter books, the words are more important for the story than the pictures 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books usually have more words on each page than picture books do, and the story is lo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books are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de-up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ories                         (fiction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4">
            <a:hlinkClick r:id="" action="ppaction://hlinkshowjump?jump=nextslide"/>
          </p:cNvPr>
          <p:cNvSpPr/>
          <p:nvPr/>
        </p:nvSpPr>
        <p:spPr>
          <a:xfrm>
            <a:off x="3809880" y="571500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chapter book?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ck the best answer by clicking on 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pter books ar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ories, not 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-up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o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pter books usuall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n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more words than picture book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pter books have mostly wor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pter books are never hard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5"/>
          <p:cNvSpPr/>
          <p:nvPr/>
        </p:nvSpPr>
        <p:spPr>
          <a:xfrm>
            <a:off x="914400" y="190512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8"/>
          <p:cNvSpPr/>
          <p:nvPr/>
        </p:nvSpPr>
        <p:spPr>
          <a:xfrm>
            <a:off x="1143000" y="4267080"/>
            <a:ext cx="4724280" cy="533520"/>
          </a:xfrm>
          <a:custGeom>
            <a:avLst/>
            <a:gdLst>
              <a:gd name="textAreaLeft" fmla="*/ 34560 w 4724280"/>
              <a:gd name="textAreaRight" fmla="*/ 4689720 w 4724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91152" h="21600">
                <a:moveTo>
                  <a:pt x="0" y="0"/>
                </a:moveTo>
                <a:lnTo>
                  <a:pt x="191152" y="0"/>
                </a:lnTo>
                <a:lnTo>
                  <a:pt x="191152" y="21600"/>
                </a:lnTo>
                <a:lnTo>
                  <a:pt x="0" y="21600"/>
                </a:lnTo>
                <a:close/>
              </a:path>
              <a:path fill="lightenLess" w="191152" h="21600">
                <a:moveTo>
                  <a:pt x="0" y="0"/>
                </a:moveTo>
                <a:lnTo>
                  <a:pt x="191152" y="0"/>
                </a:lnTo>
                <a:lnTo>
                  <a:pt x="189752" y="1400"/>
                </a:lnTo>
                <a:lnTo>
                  <a:pt x="1400" y="1400"/>
                </a:lnTo>
                <a:close/>
              </a:path>
              <a:path fill="darken" w="191152" h="21600">
                <a:moveTo>
                  <a:pt x="191152" y="0"/>
                </a:moveTo>
                <a:lnTo>
                  <a:pt x="191152" y="21600"/>
                </a:lnTo>
                <a:lnTo>
                  <a:pt x="189752" y="20200"/>
                </a:lnTo>
                <a:lnTo>
                  <a:pt x="189752" y="1400"/>
                </a:lnTo>
                <a:close/>
              </a:path>
              <a:path fill="darkenLess" w="191152" h="21600">
                <a:moveTo>
                  <a:pt x="191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752" y="20200"/>
                </a:lnTo>
                <a:close/>
              </a:path>
              <a:path fill="lighten" w="191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1066680" y="5105520"/>
            <a:ext cx="4876920" cy="457200"/>
          </a:xfrm>
          <a:custGeom>
            <a:avLst/>
            <a:gdLst>
              <a:gd name="textAreaLeft" fmla="*/ 29520 w 4876920"/>
              <a:gd name="textAreaRight" fmla="*/ 4847400 w 4876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0241" h="21600">
                <a:moveTo>
                  <a:pt x="0" y="0"/>
                </a:moveTo>
                <a:lnTo>
                  <a:pt x="230241" y="0"/>
                </a:lnTo>
                <a:lnTo>
                  <a:pt x="230241" y="21600"/>
                </a:lnTo>
                <a:lnTo>
                  <a:pt x="0" y="21600"/>
                </a:lnTo>
                <a:close/>
              </a:path>
              <a:path fill="lightenLess" w="230241" h="21600">
                <a:moveTo>
                  <a:pt x="0" y="0"/>
                </a:moveTo>
                <a:lnTo>
                  <a:pt x="230241" y="0"/>
                </a:lnTo>
                <a:lnTo>
                  <a:pt x="228841" y="1400"/>
                </a:lnTo>
                <a:lnTo>
                  <a:pt x="1400" y="1400"/>
                </a:lnTo>
                <a:close/>
              </a:path>
              <a:path fill="darken" w="230241" h="21600">
                <a:moveTo>
                  <a:pt x="230241" y="0"/>
                </a:moveTo>
                <a:lnTo>
                  <a:pt x="230241" y="21600"/>
                </a:lnTo>
                <a:lnTo>
                  <a:pt x="228841" y="20200"/>
                </a:lnTo>
                <a:lnTo>
                  <a:pt x="228841" y="1400"/>
                </a:lnTo>
                <a:close/>
              </a:path>
              <a:path fill="darkenLess" w="230241" h="21600">
                <a:moveTo>
                  <a:pt x="230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41" y="20200"/>
                </a:lnTo>
                <a:close/>
              </a:path>
              <a:path fill="lighten" w="230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AutoShape 11"/>
          <p:cNvSpPr/>
          <p:nvPr/>
        </p:nvSpPr>
        <p:spPr>
          <a:xfrm>
            <a:off x="1143000" y="4038480"/>
            <a:ext cx="5181480" cy="609840"/>
          </a:xfrm>
          <a:custGeom>
            <a:avLst/>
            <a:gdLst>
              <a:gd name="textAreaLeft" fmla="*/ 39240 w 5181480"/>
              <a:gd name="textAreaRight" fmla="*/ 5142240 w 5181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83428" h="21600">
                <a:moveTo>
                  <a:pt x="0" y="0"/>
                </a:moveTo>
                <a:lnTo>
                  <a:pt x="183428" y="0"/>
                </a:lnTo>
                <a:lnTo>
                  <a:pt x="183428" y="21600"/>
                </a:lnTo>
                <a:lnTo>
                  <a:pt x="0" y="21600"/>
                </a:lnTo>
                <a:close/>
              </a:path>
              <a:path fill="lightenLess" w="183428" h="21600">
                <a:moveTo>
                  <a:pt x="0" y="0"/>
                </a:moveTo>
                <a:lnTo>
                  <a:pt x="183428" y="0"/>
                </a:lnTo>
                <a:lnTo>
                  <a:pt x="182028" y="1400"/>
                </a:lnTo>
                <a:lnTo>
                  <a:pt x="1400" y="1400"/>
                </a:lnTo>
                <a:close/>
              </a:path>
              <a:path fill="darken" w="183428" h="21600">
                <a:moveTo>
                  <a:pt x="183428" y="0"/>
                </a:moveTo>
                <a:lnTo>
                  <a:pt x="183428" y="21600"/>
                </a:lnTo>
                <a:lnTo>
                  <a:pt x="182028" y="20200"/>
                </a:lnTo>
                <a:lnTo>
                  <a:pt x="182028" y="1400"/>
                </a:lnTo>
                <a:close/>
              </a:path>
              <a:path fill="darkenLess" w="183428" h="21600">
                <a:moveTo>
                  <a:pt x="18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028" y="20200"/>
                </a:lnTo>
                <a:close/>
              </a:path>
              <a:path fill="lighten" w="18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12"/>
          <p:cNvSpPr/>
          <p:nvPr/>
        </p:nvSpPr>
        <p:spPr>
          <a:xfrm>
            <a:off x="1143000" y="4800600"/>
            <a:ext cx="4876920" cy="609480"/>
          </a:xfrm>
          <a:custGeom>
            <a:avLst/>
            <a:gdLst>
              <a:gd name="textAreaLeft" fmla="*/ 39240 w 4876920"/>
              <a:gd name="textAreaRight" fmla="*/ 4837680 w 4876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72749" h="21600">
                <a:moveTo>
                  <a:pt x="0" y="0"/>
                </a:moveTo>
                <a:lnTo>
                  <a:pt x="172749" y="0"/>
                </a:lnTo>
                <a:lnTo>
                  <a:pt x="172749" y="21600"/>
                </a:lnTo>
                <a:lnTo>
                  <a:pt x="0" y="21600"/>
                </a:lnTo>
                <a:close/>
              </a:path>
              <a:path fill="lightenLess" w="172749" h="21600">
                <a:moveTo>
                  <a:pt x="0" y="0"/>
                </a:moveTo>
                <a:lnTo>
                  <a:pt x="172749" y="0"/>
                </a:lnTo>
                <a:lnTo>
                  <a:pt x="171349" y="1400"/>
                </a:lnTo>
                <a:lnTo>
                  <a:pt x="1400" y="1400"/>
                </a:lnTo>
                <a:close/>
              </a:path>
              <a:path fill="darken" w="172749" h="21600">
                <a:moveTo>
                  <a:pt x="172749" y="0"/>
                </a:moveTo>
                <a:lnTo>
                  <a:pt x="172749" y="21600"/>
                </a:lnTo>
                <a:lnTo>
                  <a:pt x="171349" y="20200"/>
                </a:lnTo>
                <a:lnTo>
                  <a:pt x="171349" y="1400"/>
                </a:lnTo>
                <a:close/>
              </a:path>
              <a:path fill="darkenLess" w="172749" h="21600">
                <a:moveTo>
                  <a:pt x="172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349" y="20200"/>
                </a:lnTo>
                <a:close/>
              </a:path>
              <a:path fill="lighten" w="172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utoShape 13"/>
          <p:cNvSpPr/>
          <p:nvPr/>
        </p:nvSpPr>
        <p:spPr>
          <a:xfrm>
            <a:off x="1295280" y="2895480"/>
            <a:ext cx="6248520" cy="838440"/>
          </a:xfrm>
          <a:custGeom>
            <a:avLst/>
            <a:gdLst>
              <a:gd name="textAreaLeft" fmla="*/ 54360 w 6248520"/>
              <a:gd name="textAreaRight" fmla="*/ 6194160 w 6248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60915" h="21600">
                <a:moveTo>
                  <a:pt x="0" y="0"/>
                </a:moveTo>
                <a:lnTo>
                  <a:pt x="160915" y="0"/>
                </a:lnTo>
                <a:lnTo>
                  <a:pt x="160915" y="21600"/>
                </a:lnTo>
                <a:lnTo>
                  <a:pt x="0" y="21600"/>
                </a:lnTo>
                <a:close/>
              </a:path>
              <a:path fill="lightenLess" w="160915" h="21600">
                <a:moveTo>
                  <a:pt x="0" y="0"/>
                </a:moveTo>
                <a:lnTo>
                  <a:pt x="160915" y="0"/>
                </a:lnTo>
                <a:lnTo>
                  <a:pt x="159515" y="1400"/>
                </a:lnTo>
                <a:lnTo>
                  <a:pt x="1400" y="1400"/>
                </a:lnTo>
                <a:close/>
              </a:path>
              <a:path fill="darken" w="160915" h="21600">
                <a:moveTo>
                  <a:pt x="160915" y="0"/>
                </a:moveTo>
                <a:lnTo>
                  <a:pt x="160915" y="21600"/>
                </a:lnTo>
                <a:lnTo>
                  <a:pt x="159515" y="20200"/>
                </a:lnTo>
                <a:lnTo>
                  <a:pt x="159515" y="1400"/>
                </a:lnTo>
                <a:close/>
              </a:path>
              <a:path fill="darkenLess" w="160915" h="21600">
                <a:moveTo>
                  <a:pt x="1609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515" y="20200"/>
                </a:lnTo>
                <a:close/>
              </a:path>
              <a:path fill="lighten" w="1609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16861F3E.WAV" descr=""/>
          <p:cNvPicPr/>
          <p:nvPr/>
        </p:nvPicPr>
        <p:blipFill>
          <a:blip r:embed="rId1"/>
          <a:stretch/>
        </p:blipFill>
        <p:spPr>
          <a:xfrm>
            <a:off x="6248520" y="4876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babysmall"/>
          <p:cNvPicPr/>
          <p:nvPr/>
        </p:nvPicPr>
        <p:blipFill>
          <a:blip r:embed="rId2"/>
          <a:stretch/>
        </p:blipFill>
        <p:spPr>
          <a:xfrm>
            <a:off x="5181480" y="22860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435" name="350CB03D.WAV" descr=""/>
          <p:cNvPicPr/>
          <p:nvPr/>
        </p:nvPicPr>
        <p:blipFill>
          <a:blip r:embed="rId3"/>
          <a:stretch/>
        </p:blipFill>
        <p:spPr>
          <a:xfrm>
            <a:off x="5334120" y="8534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6" name="350CB03D.WAV" descr=""/>
          <p:cNvPicPr/>
          <p:nvPr/>
        </p:nvPicPr>
        <p:blipFill>
          <a:blip r:embed="rId4"/>
          <a:stretch/>
        </p:blipFill>
        <p:spPr>
          <a:xfrm>
            <a:off x="5029200" y="8077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33"/>
                </a:solidFill>
                <a:latin typeface="Comic Sans MS"/>
              </a:rPr>
              <a:t>WOW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Good jo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You are brillian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901"/>
              </a:spcBef>
              <a:buClr>
                <a:srgbClr val="003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600"/>
                </a:solidFill>
                <a:latin typeface="Comic Sans MS"/>
              </a:rPr>
              <a:t>Way to go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9" name="08A360FF.WAV" descr=""/>
          <p:cNvPicPr/>
          <p:nvPr/>
        </p:nvPicPr>
        <p:blipFill>
          <a:blip r:embed="rId5"/>
          <a:stretch/>
        </p:blipFill>
        <p:spPr>
          <a:xfrm>
            <a:off x="2819520" y="8458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12">
            <a:hlinkClick r:id="" action="ppaction://hlinkshowjump?jump=nextslide"/>
          </p:cNvPr>
          <p:cNvSpPr/>
          <p:nvPr/>
        </p:nvSpPr>
        <p:spPr>
          <a:xfrm>
            <a:off x="3657600" y="5867280"/>
            <a:ext cx="1728720" cy="990720"/>
          </a:xfrm>
          <a:custGeom>
            <a:avLst/>
            <a:gdLst>
              <a:gd name="textAreaLeft" fmla="*/ 64080 w 1728720"/>
              <a:gd name="textAreaRight" fmla="*/ 1664640 w 1728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7684" h="21600">
                <a:moveTo>
                  <a:pt x="0" y="0"/>
                </a:moveTo>
                <a:lnTo>
                  <a:pt x="37684" y="0"/>
                </a:lnTo>
                <a:lnTo>
                  <a:pt x="37684" y="21600"/>
                </a:lnTo>
                <a:lnTo>
                  <a:pt x="0" y="21600"/>
                </a:lnTo>
                <a:close/>
              </a:path>
              <a:path fill="lightenLess" w="37684" h="21600">
                <a:moveTo>
                  <a:pt x="0" y="0"/>
                </a:moveTo>
                <a:lnTo>
                  <a:pt x="37684" y="0"/>
                </a:lnTo>
                <a:lnTo>
                  <a:pt x="36284" y="1400"/>
                </a:lnTo>
                <a:lnTo>
                  <a:pt x="1400" y="1400"/>
                </a:lnTo>
                <a:close/>
              </a:path>
              <a:path fill="darken" w="37684" h="21600">
                <a:moveTo>
                  <a:pt x="37684" y="0"/>
                </a:moveTo>
                <a:lnTo>
                  <a:pt x="37684" y="21600"/>
                </a:lnTo>
                <a:lnTo>
                  <a:pt x="36284" y="20200"/>
                </a:lnTo>
                <a:lnTo>
                  <a:pt x="36284" y="1400"/>
                </a:lnTo>
                <a:close/>
              </a:path>
              <a:path fill="darkenLess" w="37684" h="21600">
                <a:moveTo>
                  <a:pt x="37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84" y="20200"/>
                </a:lnTo>
                <a:close/>
              </a:path>
              <a:path fill="lighten" w="37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84" h="21600">
                <a:moveTo>
                  <a:pt x="11836" y="3794"/>
                </a:moveTo>
                <a:lnTo>
                  <a:pt x="25849" y="10800"/>
                </a:lnTo>
                <a:lnTo>
                  <a:pt x="1183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n-fiction (Information) S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third section i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n-Fiction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ks (also calle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form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ooks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3" name="Picture 5" descr="0618005595"/>
          <p:cNvPicPr/>
          <p:nvPr/>
        </p:nvPicPr>
        <p:blipFill>
          <a:blip r:embed="rId1"/>
          <a:stretch/>
        </p:blipFill>
        <p:spPr>
          <a:xfrm>
            <a:off x="4619520" y="2057400"/>
            <a:ext cx="3751200" cy="350532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6">
            <a:hlinkClick r:id="" action="ppaction://hlinkshowjump?jump=nextslide"/>
          </p:cNvPr>
          <p:cNvSpPr/>
          <p:nvPr/>
        </p:nvSpPr>
        <p:spPr>
          <a:xfrm>
            <a:off x="34290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24448" y="10800"/>
                </a:lnTo>
                <a:lnTo>
                  <a:pt x="1043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-Fiction / Information Boo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(Information) books are stories that tell about things that are re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books have real places and real things in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can be about people, about places, about things – they can be history, or geography, crafts, sports, weather, science fair projects, even dinosaurs . .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3657600" y="61722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982" h="21600">
                <a:moveTo>
                  <a:pt x="16985" y="3794"/>
                </a:moveTo>
                <a:lnTo>
                  <a:pt x="30998" y="10800"/>
                </a:lnTo>
                <a:lnTo>
                  <a:pt x="1698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 this to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(Information) books are stories that tell about things that are re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Fiction can be about people, about places, about things – they can be history, or geography, crafts, sports, weather, science fair projects, even dinosaurs . .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3200400" y="5715000"/>
            <a:ext cx="2819520" cy="1143000"/>
          </a:xfrm>
          <a:custGeom>
            <a:avLst/>
            <a:gdLst>
              <a:gd name="textAreaLeft" fmla="*/ 73800 w 2819520"/>
              <a:gd name="textAreaRight" fmla="*/ 2745720 w 2819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272" h="21600">
                <a:moveTo>
                  <a:pt x="0" y="0"/>
                </a:moveTo>
                <a:lnTo>
                  <a:pt x="53272" y="0"/>
                </a:lnTo>
                <a:lnTo>
                  <a:pt x="53272" y="21600"/>
                </a:lnTo>
                <a:lnTo>
                  <a:pt x="0" y="21600"/>
                </a:lnTo>
                <a:close/>
              </a:path>
              <a:path fill="lightenLess" w="53272" h="21600">
                <a:moveTo>
                  <a:pt x="0" y="0"/>
                </a:moveTo>
                <a:lnTo>
                  <a:pt x="53272" y="0"/>
                </a:lnTo>
                <a:lnTo>
                  <a:pt x="51872" y="1400"/>
                </a:lnTo>
                <a:lnTo>
                  <a:pt x="1400" y="1400"/>
                </a:lnTo>
                <a:close/>
              </a:path>
              <a:path fill="darken" w="53272" h="21600">
                <a:moveTo>
                  <a:pt x="53272" y="0"/>
                </a:moveTo>
                <a:lnTo>
                  <a:pt x="53272" y="21600"/>
                </a:lnTo>
                <a:lnTo>
                  <a:pt x="51872" y="20200"/>
                </a:lnTo>
                <a:lnTo>
                  <a:pt x="51872" y="1400"/>
                </a:lnTo>
                <a:close/>
              </a:path>
              <a:path fill="darkenLess" w="53272" h="21600">
                <a:moveTo>
                  <a:pt x="5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872" y="20200"/>
                </a:lnTo>
                <a:close/>
              </a:path>
              <a:path fill="lighten" w="5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ans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ine of a book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pine of a book is the part that you see when the book is on the shelf, and other books are alongside your book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pine of a book helps hold your book together and keep it strong just like the spine in your body do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4">
            <a:hlinkClick r:id="" action="ppaction://hlinkshowjump?jump=nextslide"/>
          </p:cNvPr>
          <p:cNvSpPr/>
          <p:nvPr/>
        </p:nvSpPr>
        <p:spPr>
          <a:xfrm>
            <a:off x="3962520" y="5791320"/>
            <a:ext cx="1371600" cy="76176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8884" h="21600">
                <a:moveTo>
                  <a:pt x="0" y="0"/>
                </a:moveTo>
                <a:lnTo>
                  <a:pt x="38884" y="0"/>
                </a:lnTo>
                <a:lnTo>
                  <a:pt x="38884" y="21600"/>
                </a:lnTo>
                <a:lnTo>
                  <a:pt x="0" y="21600"/>
                </a:lnTo>
                <a:close/>
              </a:path>
              <a:path fill="lightenLess" w="38884" h="21600">
                <a:moveTo>
                  <a:pt x="0" y="0"/>
                </a:moveTo>
                <a:lnTo>
                  <a:pt x="38884" y="0"/>
                </a:lnTo>
                <a:lnTo>
                  <a:pt x="37484" y="1400"/>
                </a:lnTo>
                <a:lnTo>
                  <a:pt x="1400" y="1400"/>
                </a:lnTo>
                <a:close/>
              </a:path>
              <a:path fill="darken" w="38884" h="21600">
                <a:moveTo>
                  <a:pt x="38884" y="0"/>
                </a:moveTo>
                <a:lnTo>
                  <a:pt x="38884" y="21600"/>
                </a:lnTo>
                <a:lnTo>
                  <a:pt x="37484" y="20200"/>
                </a:lnTo>
                <a:lnTo>
                  <a:pt x="37484" y="1400"/>
                </a:lnTo>
                <a:close/>
              </a:path>
              <a:path fill="darkenLess" w="38884" h="21600">
                <a:moveTo>
                  <a:pt x="38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4" y="20200"/>
                </a:lnTo>
                <a:close/>
              </a:path>
              <a:path fill="lighten" w="38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4" h="21600">
                <a:moveTo>
                  <a:pt x="12436" y="3794"/>
                </a:moveTo>
                <a:lnTo>
                  <a:pt x="26449" y="10800"/>
                </a:lnTo>
                <a:lnTo>
                  <a:pt x="1243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best answer for non-fic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n-fiction is pretend, or made-up (make-believe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l information is found in non-fi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n-Fiction can be about people, about places, or about thing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1143000" y="2057400"/>
            <a:ext cx="6095880" cy="838080"/>
          </a:xfrm>
          <a:custGeom>
            <a:avLst/>
            <a:gdLst>
              <a:gd name="textAreaLeft" fmla="*/ 54000 w 6095880"/>
              <a:gd name="textAreaRight" fmla="*/ 6041880 w 6095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57052" h="21600">
                <a:moveTo>
                  <a:pt x="0" y="0"/>
                </a:moveTo>
                <a:lnTo>
                  <a:pt x="157052" y="0"/>
                </a:lnTo>
                <a:lnTo>
                  <a:pt x="157052" y="21600"/>
                </a:lnTo>
                <a:lnTo>
                  <a:pt x="0" y="21600"/>
                </a:lnTo>
                <a:close/>
              </a:path>
              <a:path fill="lightenLess" w="157052" h="21600">
                <a:moveTo>
                  <a:pt x="0" y="0"/>
                </a:moveTo>
                <a:lnTo>
                  <a:pt x="157052" y="0"/>
                </a:lnTo>
                <a:lnTo>
                  <a:pt x="155652" y="1400"/>
                </a:lnTo>
                <a:lnTo>
                  <a:pt x="1400" y="1400"/>
                </a:lnTo>
                <a:close/>
              </a:path>
              <a:path fill="darken" w="157052" h="21600">
                <a:moveTo>
                  <a:pt x="157052" y="0"/>
                </a:moveTo>
                <a:lnTo>
                  <a:pt x="157052" y="21600"/>
                </a:lnTo>
                <a:lnTo>
                  <a:pt x="155652" y="20200"/>
                </a:lnTo>
                <a:lnTo>
                  <a:pt x="155652" y="1400"/>
                </a:lnTo>
                <a:close/>
              </a:path>
              <a:path fill="darkenLess" w="157052" h="21600">
                <a:moveTo>
                  <a:pt x="157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5652" y="20200"/>
                </a:lnTo>
                <a:close/>
              </a:path>
              <a:path fill="lighten" w="157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1066680" y="3200400"/>
            <a:ext cx="6705720" cy="762120"/>
          </a:xfrm>
          <a:custGeom>
            <a:avLst/>
            <a:gdLst>
              <a:gd name="textAreaLeft" fmla="*/ 49320 w 6705720"/>
              <a:gd name="textAreaRight" fmla="*/ 6656400 w 6705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9974" h="21600">
                <a:moveTo>
                  <a:pt x="0" y="0"/>
                </a:moveTo>
                <a:lnTo>
                  <a:pt x="189974" y="0"/>
                </a:lnTo>
                <a:lnTo>
                  <a:pt x="189974" y="21600"/>
                </a:lnTo>
                <a:lnTo>
                  <a:pt x="0" y="21600"/>
                </a:lnTo>
                <a:close/>
              </a:path>
              <a:path fill="lightenLess" w="189974" h="21600">
                <a:moveTo>
                  <a:pt x="0" y="0"/>
                </a:moveTo>
                <a:lnTo>
                  <a:pt x="189974" y="0"/>
                </a:lnTo>
                <a:lnTo>
                  <a:pt x="188574" y="1400"/>
                </a:lnTo>
                <a:lnTo>
                  <a:pt x="1400" y="1400"/>
                </a:lnTo>
                <a:close/>
              </a:path>
              <a:path fill="darken" w="189974" h="21600">
                <a:moveTo>
                  <a:pt x="189974" y="0"/>
                </a:moveTo>
                <a:lnTo>
                  <a:pt x="189974" y="21600"/>
                </a:lnTo>
                <a:lnTo>
                  <a:pt x="188574" y="20200"/>
                </a:lnTo>
                <a:lnTo>
                  <a:pt x="188574" y="1400"/>
                </a:lnTo>
                <a:close/>
              </a:path>
              <a:path fill="darkenLess" w="189974" h="21600">
                <a:moveTo>
                  <a:pt x="189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8574" y="20200"/>
                </a:lnTo>
                <a:close/>
              </a:path>
              <a:path fill="lighten" w="189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990720" y="4267080"/>
            <a:ext cx="6019560" cy="914400"/>
          </a:xfrm>
          <a:custGeom>
            <a:avLst/>
            <a:gdLst>
              <a:gd name="textAreaLeft" fmla="*/ 59040 w 6019560"/>
              <a:gd name="textAreaRight" fmla="*/ 5960520 w 6019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42147" h="21600">
                <a:moveTo>
                  <a:pt x="0" y="0"/>
                </a:moveTo>
                <a:lnTo>
                  <a:pt x="142147" y="0"/>
                </a:lnTo>
                <a:lnTo>
                  <a:pt x="142147" y="21600"/>
                </a:lnTo>
                <a:lnTo>
                  <a:pt x="0" y="21600"/>
                </a:lnTo>
                <a:close/>
              </a:path>
              <a:path fill="lightenLess" w="142147" h="21600">
                <a:moveTo>
                  <a:pt x="0" y="0"/>
                </a:moveTo>
                <a:lnTo>
                  <a:pt x="142147" y="0"/>
                </a:lnTo>
                <a:lnTo>
                  <a:pt x="140747" y="1400"/>
                </a:lnTo>
                <a:lnTo>
                  <a:pt x="1400" y="1400"/>
                </a:lnTo>
                <a:close/>
              </a:path>
              <a:path fill="darken" w="142147" h="21600">
                <a:moveTo>
                  <a:pt x="142147" y="0"/>
                </a:moveTo>
                <a:lnTo>
                  <a:pt x="142147" y="21600"/>
                </a:lnTo>
                <a:lnTo>
                  <a:pt x="140747" y="20200"/>
                </a:lnTo>
                <a:lnTo>
                  <a:pt x="140747" y="1400"/>
                </a:lnTo>
                <a:close/>
              </a:path>
              <a:path fill="darkenLess" w="142147" h="21600">
                <a:moveTo>
                  <a:pt x="142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747" y="20200"/>
                </a:lnTo>
                <a:close/>
              </a:path>
              <a:path fill="lighten" w="142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2819520" y="601992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Click the best answer cho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wesome answe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ou rock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9" name="Picture 7" descr="j0275968[1]"/>
          <p:cNvPicPr/>
          <p:nvPr/>
        </p:nvPicPr>
        <p:blipFill>
          <a:blip r:embed="rId1"/>
          <a:stretch/>
        </p:blipFill>
        <p:spPr>
          <a:xfrm>
            <a:off x="5105520" y="1981080"/>
            <a:ext cx="2779560" cy="327672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9">
            <a:hlinkClick r:id="" action="ppaction://hlinkshowjump?jump=nextslide"/>
          </p:cNvPr>
          <p:cNvSpPr/>
          <p:nvPr/>
        </p:nvSpPr>
        <p:spPr>
          <a:xfrm>
            <a:off x="3276720" y="5486400"/>
            <a:ext cx="1981080" cy="1371600"/>
          </a:xfrm>
          <a:custGeom>
            <a:avLst/>
            <a:gdLst>
              <a:gd name="textAreaLeft" fmla="*/ 88920 w 1981080"/>
              <a:gd name="textAreaRight" fmla="*/ 1892160 w 19810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31196" h="21600">
                <a:moveTo>
                  <a:pt x="0" y="0"/>
                </a:moveTo>
                <a:lnTo>
                  <a:pt x="31196" y="0"/>
                </a:lnTo>
                <a:lnTo>
                  <a:pt x="31196" y="21600"/>
                </a:lnTo>
                <a:lnTo>
                  <a:pt x="0" y="21600"/>
                </a:lnTo>
                <a:close/>
              </a:path>
              <a:path fill="lightenLess" w="31196" h="21600">
                <a:moveTo>
                  <a:pt x="0" y="0"/>
                </a:moveTo>
                <a:lnTo>
                  <a:pt x="31196" y="0"/>
                </a:lnTo>
                <a:lnTo>
                  <a:pt x="29796" y="1400"/>
                </a:lnTo>
                <a:lnTo>
                  <a:pt x="1400" y="1400"/>
                </a:lnTo>
                <a:close/>
              </a:path>
              <a:path fill="darken" w="31196" h="21600">
                <a:moveTo>
                  <a:pt x="31196" y="0"/>
                </a:moveTo>
                <a:lnTo>
                  <a:pt x="31196" y="21600"/>
                </a:lnTo>
                <a:lnTo>
                  <a:pt x="29796" y="20200"/>
                </a:lnTo>
                <a:lnTo>
                  <a:pt x="29796" y="1400"/>
                </a:lnTo>
                <a:close/>
              </a:path>
              <a:path fill="darkenLess" w="31196" h="21600">
                <a:moveTo>
                  <a:pt x="31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6" y="20200"/>
                </a:lnTo>
                <a:close/>
              </a:path>
              <a:path fill="lighten" w="31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6" h="21600">
                <a:moveTo>
                  <a:pt x="8591" y="3794"/>
                </a:moveTo>
                <a:lnTo>
                  <a:pt x="22604" y="10800"/>
                </a:lnTo>
                <a:lnTo>
                  <a:pt x="859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1" name="16 Let it Go.m4a" descr="/Users/tburgey/Music/iTunes/iTunes Music/Def Leopard/High and Dry/16 Let it Go.m4a"/>
          <p:cNvPicPr/>
          <p:nvPr/>
        </p:nvPicPr>
        <p:blipFill>
          <a:blip r:embed="rId2"/>
          <a:stretch/>
        </p:blipFill>
        <p:spPr>
          <a:xfrm>
            <a:off x="3809880" y="30798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graphy Sec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 section is called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ographi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graphies 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kind of non-fiction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4" name="Picture 5" descr="1570612935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289548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6">
            <a:hlinkClick r:id="" action="ppaction://hlinkshowjump?jump=nextslide"/>
          </p:cNvPr>
          <p:cNvSpPr/>
          <p:nvPr/>
        </p:nvSpPr>
        <p:spPr>
          <a:xfrm>
            <a:off x="3581280" y="5486400"/>
            <a:ext cx="1905120" cy="1371600"/>
          </a:xfrm>
          <a:custGeom>
            <a:avLst/>
            <a:gdLst>
              <a:gd name="textAreaLeft" fmla="*/ 88920 w 1905120"/>
              <a:gd name="textAreaRight" fmla="*/ 1816200 w 19051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30000" h="21600">
                <a:moveTo>
                  <a:pt x="0" y="0"/>
                </a:moveTo>
                <a:lnTo>
                  <a:pt x="30000" y="0"/>
                </a:lnTo>
                <a:lnTo>
                  <a:pt x="30000" y="21600"/>
                </a:lnTo>
                <a:lnTo>
                  <a:pt x="0" y="21600"/>
                </a:lnTo>
                <a:close/>
              </a:path>
              <a:path fill="lightenLess" w="30000" h="21600">
                <a:moveTo>
                  <a:pt x="0" y="0"/>
                </a:moveTo>
                <a:lnTo>
                  <a:pt x="30000" y="0"/>
                </a:lnTo>
                <a:lnTo>
                  <a:pt x="28600" y="1400"/>
                </a:lnTo>
                <a:lnTo>
                  <a:pt x="1400" y="1400"/>
                </a:lnTo>
                <a:close/>
              </a:path>
              <a:path fill="darken" w="30000" h="21600">
                <a:moveTo>
                  <a:pt x="30000" y="0"/>
                </a:moveTo>
                <a:lnTo>
                  <a:pt x="30000" y="21600"/>
                </a:lnTo>
                <a:lnTo>
                  <a:pt x="28600" y="20200"/>
                </a:lnTo>
                <a:lnTo>
                  <a:pt x="28600" y="1400"/>
                </a:lnTo>
                <a:close/>
              </a:path>
              <a:path fill="darkenLess" w="30000" h="21600">
                <a:moveTo>
                  <a:pt x="30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00" y="20200"/>
                </a:lnTo>
                <a:close/>
              </a:path>
              <a:path fill="lighten" w="30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00" h="21600">
                <a:moveTo>
                  <a:pt x="7993" y="3794"/>
                </a:moveTo>
                <a:lnTo>
                  <a:pt x="22006" y="10800"/>
                </a:lnTo>
                <a:lnTo>
                  <a:pt x="799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graph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graphies are about real peo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graphies tell about the life of a person that lived in the past or even one that lives n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graphies are true, and they are about real people, not made-up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AutoShape 4">
            <a:hlinkClick r:id="" action="ppaction://hlinkshowjump?jump=nextslide"/>
          </p:cNvPr>
          <p:cNvSpPr/>
          <p:nvPr/>
        </p:nvSpPr>
        <p:spPr>
          <a:xfrm>
            <a:off x="3657600" y="5715000"/>
            <a:ext cx="1905120" cy="1042920"/>
          </a:xfrm>
          <a:custGeom>
            <a:avLst/>
            <a:gdLst>
              <a:gd name="textAreaLeft" fmla="*/ 67320 w 1905120"/>
              <a:gd name="textAreaRight" fmla="*/ 1837800 w 1905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9451" h="21600">
                <a:moveTo>
                  <a:pt x="0" y="0"/>
                </a:moveTo>
                <a:lnTo>
                  <a:pt x="39451" y="0"/>
                </a:lnTo>
                <a:lnTo>
                  <a:pt x="39451" y="21600"/>
                </a:lnTo>
                <a:lnTo>
                  <a:pt x="0" y="21600"/>
                </a:lnTo>
                <a:close/>
              </a:path>
              <a:path fill="lightenLess" w="39451" h="21600">
                <a:moveTo>
                  <a:pt x="0" y="0"/>
                </a:moveTo>
                <a:lnTo>
                  <a:pt x="39451" y="0"/>
                </a:lnTo>
                <a:lnTo>
                  <a:pt x="38051" y="1400"/>
                </a:lnTo>
                <a:lnTo>
                  <a:pt x="1400" y="1400"/>
                </a:lnTo>
                <a:close/>
              </a:path>
              <a:path fill="darken" w="39451" h="21600">
                <a:moveTo>
                  <a:pt x="39451" y="0"/>
                </a:moveTo>
                <a:lnTo>
                  <a:pt x="39451" y="21600"/>
                </a:lnTo>
                <a:lnTo>
                  <a:pt x="38051" y="20200"/>
                </a:lnTo>
                <a:lnTo>
                  <a:pt x="38051" y="1400"/>
                </a:lnTo>
                <a:close/>
              </a:path>
              <a:path fill="darkenLess" w="39451" h="21600">
                <a:moveTo>
                  <a:pt x="3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1" y="20200"/>
                </a:lnTo>
                <a:close/>
              </a:path>
              <a:path fill="lighten" w="3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51" h="21600">
                <a:moveTo>
                  <a:pt x="12719" y="3794"/>
                </a:moveTo>
                <a:lnTo>
                  <a:pt x="26732" y="10800"/>
                </a:lnTo>
                <a:lnTo>
                  <a:pt x="1271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graph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a biography about a real person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Michael Jord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1" name="Picture 11" descr="0689833717"/>
          <p:cNvPicPr/>
          <p:nvPr/>
        </p:nvPicPr>
        <p:blipFill>
          <a:blip r:embed="rId1"/>
          <a:stretch/>
        </p:blipFill>
        <p:spPr>
          <a:xfrm>
            <a:off x="5049720" y="2362320"/>
            <a:ext cx="2022480" cy="3052800"/>
          </a:xfrm>
          <a:prstGeom prst="rect">
            <a:avLst/>
          </a:prstGeom>
          <a:ln w="0">
            <a:noFill/>
          </a:ln>
        </p:spPr>
      </p:pic>
      <p:sp>
        <p:nvSpPr>
          <p:cNvPr id="472" name="AutoShape 14">
            <a:hlinkClick r:id="" action="ppaction://hlinkshowjump?jump=nextslide"/>
          </p:cNvPr>
          <p:cNvSpPr/>
          <p:nvPr/>
        </p:nvSpPr>
        <p:spPr>
          <a:xfrm>
            <a:off x="3657600" y="5715000"/>
            <a:ext cx="1805040" cy="1143000"/>
          </a:xfrm>
          <a:custGeom>
            <a:avLst/>
            <a:gdLst>
              <a:gd name="textAreaLeft" fmla="*/ 73800 w 1805040"/>
              <a:gd name="textAreaRight" fmla="*/ 1731240 w 1805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107" h="21600">
                <a:moveTo>
                  <a:pt x="0" y="0"/>
                </a:moveTo>
                <a:lnTo>
                  <a:pt x="34107" y="0"/>
                </a:lnTo>
                <a:lnTo>
                  <a:pt x="34107" y="21600"/>
                </a:lnTo>
                <a:lnTo>
                  <a:pt x="0" y="21600"/>
                </a:lnTo>
                <a:close/>
              </a:path>
              <a:path fill="lightenLess" w="34107" h="21600">
                <a:moveTo>
                  <a:pt x="0" y="0"/>
                </a:moveTo>
                <a:lnTo>
                  <a:pt x="34107" y="0"/>
                </a:lnTo>
                <a:lnTo>
                  <a:pt x="32707" y="1400"/>
                </a:lnTo>
                <a:lnTo>
                  <a:pt x="1400" y="1400"/>
                </a:lnTo>
                <a:close/>
              </a:path>
              <a:path fill="darken" w="34107" h="21600">
                <a:moveTo>
                  <a:pt x="34107" y="0"/>
                </a:moveTo>
                <a:lnTo>
                  <a:pt x="34107" y="21600"/>
                </a:lnTo>
                <a:lnTo>
                  <a:pt x="32707" y="20200"/>
                </a:lnTo>
                <a:lnTo>
                  <a:pt x="32707" y="1400"/>
                </a:lnTo>
                <a:close/>
              </a:path>
              <a:path fill="darkenLess" w="34107" h="21600">
                <a:moveTo>
                  <a:pt x="34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07" y="20200"/>
                </a:lnTo>
                <a:close/>
              </a:path>
              <a:path fill="lighten" w="34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07" h="21600">
                <a:moveTo>
                  <a:pt x="10047" y="3794"/>
                </a:moveTo>
                <a:lnTo>
                  <a:pt x="24060" y="10800"/>
                </a:lnTo>
                <a:lnTo>
                  <a:pt x="1004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Biograp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ook about a real person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if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hing made-up and imagin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tells definitions or words but doesn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tell about peo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2666880" y="617220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Comic Sans MS"/>
              </a:rPr>
              <a:t>Click on the best answer abo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1066680" y="1752480"/>
            <a:ext cx="6248520" cy="609840"/>
          </a:xfrm>
          <a:custGeom>
            <a:avLst/>
            <a:gdLst>
              <a:gd name="textAreaLeft" fmla="*/ 39240 w 6248520"/>
              <a:gd name="textAreaRight" fmla="*/ 6209280 w 6248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21199" h="21600">
                <a:moveTo>
                  <a:pt x="0" y="0"/>
                </a:moveTo>
                <a:lnTo>
                  <a:pt x="221199" y="0"/>
                </a:lnTo>
                <a:lnTo>
                  <a:pt x="221199" y="21600"/>
                </a:lnTo>
                <a:lnTo>
                  <a:pt x="0" y="21600"/>
                </a:lnTo>
                <a:close/>
              </a:path>
              <a:path fill="lightenLess" w="221199" h="21600">
                <a:moveTo>
                  <a:pt x="0" y="0"/>
                </a:moveTo>
                <a:lnTo>
                  <a:pt x="221199" y="0"/>
                </a:lnTo>
                <a:lnTo>
                  <a:pt x="219799" y="1400"/>
                </a:lnTo>
                <a:lnTo>
                  <a:pt x="1400" y="1400"/>
                </a:lnTo>
                <a:close/>
              </a:path>
              <a:path fill="darken" w="221199" h="21600">
                <a:moveTo>
                  <a:pt x="221199" y="0"/>
                </a:moveTo>
                <a:lnTo>
                  <a:pt x="221199" y="21600"/>
                </a:lnTo>
                <a:lnTo>
                  <a:pt x="219799" y="20200"/>
                </a:lnTo>
                <a:lnTo>
                  <a:pt x="219799" y="1400"/>
                </a:lnTo>
                <a:close/>
              </a:path>
              <a:path fill="darkenLess" w="221199" h="21600">
                <a:moveTo>
                  <a:pt x="22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799" y="20200"/>
                </a:lnTo>
                <a:close/>
              </a:path>
              <a:path fill="lighten" w="22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1143000" y="2971800"/>
            <a:ext cx="6172200" cy="762120"/>
          </a:xfrm>
          <a:custGeom>
            <a:avLst/>
            <a:gdLst>
              <a:gd name="textAreaLeft" fmla="*/ 49320 w 6172200"/>
              <a:gd name="textAreaRight" fmla="*/ 6122880 w 6172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4860" h="21600">
                <a:moveTo>
                  <a:pt x="0" y="0"/>
                </a:moveTo>
                <a:lnTo>
                  <a:pt x="174860" y="0"/>
                </a:lnTo>
                <a:lnTo>
                  <a:pt x="174860" y="21600"/>
                </a:lnTo>
                <a:lnTo>
                  <a:pt x="0" y="21600"/>
                </a:lnTo>
                <a:close/>
              </a:path>
              <a:path fill="lightenLess" w="174860" h="21600">
                <a:moveTo>
                  <a:pt x="0" y="0"/>
                </a:moveTo>
                <a:lnTo>
                  <a:pt x="174860" y="0"/>
                </a:lnTo>
                <a:lnTo>
                  <a:pt x="173460" y="1400"/>
                </a:lnTo>
                <a:lnTo>
                  <a:pt x="1400" y="1400"/>
                </a:lnTo>
                <a:close/>
              </a:path>
              <a:path fill="darken" w="174860" h="21600">
                <a:moveTo>
                  <a:pt x="174860" y="0"/>
                </a:moveTo>
                <a:lnTo>
                  <a:pt x="174860" y="21600"/>
                </a:lnTo>
                <a:lnTo>
                  <a:pt x="173460" y="20200"/>
                </a:lnTo>
                <a:lnTo>
                  <a:pt x="173460" y="1400"/>
                </a:lnTo>
                <a:close/>
              </a:path>
              <a:path fill="darkenLess" w="174860" h="21600">
                <a:moveTo>
                  <a:pt x="174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460" y="20200"/>
                </a:lnTo>
                <a:close/>
              </a:path>
              <a:path fill="lighten" w="174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AutoShape 7"/>
          <p:cNvSpPr/>
          <p:nvPr/>
        </p:nvSpPr>
        <p:spPr>
          <a:xfrm>
            <a:off x="1219320" y="4191120"/>
            <a:ext cx="6095880" cy="1066680"/>
          </a:xfrm>
          <a:custGeom>
            <a:avLst/>
            <a:gdLst>
              <a:gd name="textAreaLeft" fmla="*/ 69120 w 6095880"/>
              <a:gd name="textAreaRight" fmla="*/ 6026760 w 6095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23406" h="21600">
                <a:moveTo>
                  <a:pt x="0" y="0"/>
                </a:moveTo>
                <a:lnTo>
                  <a:pt x="123406" y="0"/>
                </a:lnTo>
                <a:lnTo>
                  <a:pt x="123406" y="21600"/>
                </a:lnTo>
                <a:lnTo>
                  <a:pt x="0" y="21600"/>
                </a:lnTo>
                <a:close/>
              </a:path>
              <a:path fill="lightenLess" w="123406" h="21600">
                <a:moveTo>
                  <a:pt x="0" y="0"/>
                </a:moveTo>
                <a:lnTo>
                  <a:pt x="123406" y="0"/>
                </a:lnTo>
                <a:lnTo>
                  <a:pt x="122006" y="1400"/>
                </a:lnTo>
                <a:lnTo>
                  <a:pt x="1400" y="1400"/>
                </a:lnTo>
                <a:close/>
              </a:path>
              <a:path fill="darken" w="123406" h="21600">
                <a:moveTo>
                  <a:pt x="123406" y="0"/>
                </a:moveTo>
                <a:lnTo>
                  <a:pt x="123406" y="21600"/>
                </a:lnTo>
                <a:lnTo>
                  <a:pt x="122006" y="20200"/>
                </a:lnTo>
                <a:lnTo>
                  <a:pt x="122006" y="1400"/>
                </a:lnTo>
                <a:close/>
              </a:path>
              <a:path fill="darkenLess" w="123406" h="21600">
                <a:moveTo>
                  <a:pt x="123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006" y="20200"/>
                </a:lnTo>
                <a:close/>
              </a:path>
              <a:path fill="lighten" w="123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8C1EF6B9.WAV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5791320" y="-360"/>
            <a:ext cx="533412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3273480" cy="32767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nswe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ly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you may go on to the next sli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WordArt 9"/>
          <p:cNvSpPr txBox="1"/>
          <p:nvPr/>
        </p:nvSpPr>
        <p:spPr>
          <a:xfrm>
            <a:off x="1523880" y="380880"/>
            <a:ext cx="5715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urray! 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2743200" y="60199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Click here to go to the next sl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AutoShape 11">
            <a:hlinkClick r:id="" action="ppaction://hlinkshowjump?jump=nextslide"/>
          </p:cNvPr>
          <p:cNvSpPr/>
          <p:nvPr/>
        </p:nvSpPr>
        <p:spPr>
          <a:xfrm>
            <a:off x="2895480" y="5867280"/>
            <a:ext cx="3505320" cy="533520"/>
          </a:xfrm>
          <a:custGeom>
            <a:avLst/>
            <a:gdLst>
              <a:gd name="textAreaLeft" fmla="*/ 34560 w 3505320"/>
              <a:gd name="textAreaRight" fmla="*/ 3470760 w 3505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41835" h="21600">
                <a:moveTo>
                  <a:pt x="0" y="0"/>
                </a:moveTo>
                <a:lnTo>
                  <a:pt x="141835" y="0"/>
                </a:lnTo>
                <a:lnTo>
                  <a:pt x="141835" y="21600"/>
                </a:lnTo>
                <a:lnTo>
                  <a:pt x="0" y="21600"/>
                </a:lnTo>
                <a:close/>
              </a:path>
              <a:path fill="lightenLess" w="141835" h="21600">
                <a:moveTo>
                  <a:pt x="0" y="0"/>
                </a:moveTo>
                <a:lnTo>
                  <a:pt x="141835" y="0"/>
                </a:lnTo>
                <a:lnTo>
                  <a:pt x="140435" y="1400"/>
                </a:lnTo>
                <a:lnTo>
                  <a:pt x="1400" y="1400"/>
                </a:lnTo>
                <a:close/>
              </a:path>
              <a:path fill="darken" w="141835" h="21600">
                <a:moveTo>
                  <a:pt x="141835" y="0"/>
                </a:moveTo>
                <a:lnTo>
                  <a:pt x="141835" y="21600"/>
                </a:lnTo>
                <a:lnTo>
                  <a:pt x="140435" y="20200"/>
                </a:lnTo>
                <a:lnTo>
                  <a:pt x="140435" y="1400"/>
                </a:lnTo>
                <a:close/>
              </a:path>
              <a:path fill="darkenLess" w="141835" h="21600">
                <a:moveTo>
                  <a:pt x="141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435" y="20200"/>
                </a:lnTo>
                <a:close/>
              </a:path>
              <a:path fill="lighten" w="141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0228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learned abou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rrangement of the library and the books in each section:  picture books, chapter books (fiction), non-fiction, and biograph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, Spine, Cover,  and Author, and Illustrat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AutoShape 4">
            <a:hlinkClick r:id="" action="ppaction://hlinkshowjump?jump=nextslide"/>
          </p:cNvPr>
          <p:cNvSpPr/>
          <p:nvPr/>
        </p:nvSpPr>
        <p:spPr>
          <a:xfrm>
            <a:off x="3733920" y="571500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ep up the good work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 come to the library next time, you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 know where to look for each type of boo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 be able to find the books you want too, by knowing where to loo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1" name="Picture 10" descr="j0232180[1]"/>
          <p:cNvPicPr/>
          <p:nvPr/>
        </p:nvPicPr>
        <p:blipFill>
          <a:blip r:embed="rId1"/>
          <a:stretch/>
        </p:blipFill>
        <p:spPr>
          <a:xfrm>
            <a:off x="1633680" y="2209680"/>
            <a:ext cx="2481120" cy="304812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11">
            <a:hlinkClick r:id="" action="ppaction://hlinkshowjump?jump=lastslide"/>
          </p:cNvPr>
          <p:cNvSpPr/>
          <p:nvPr/>
        </p:nvSpPr>
        <p:spPr>
          <a:xfrm>
            <a:off x="2362320" y="5562720"/>
            <a:ext cx="2361960" cy="914400"/>
          </a:xfrm>
          <a:custGeom>
            <a:avLst/>
            <a:gdLst>
              <a:gd name="textAreaLeft" fmla="*/ 59040 w 2361960"/>
              <a:gd name="textAreaRight" fmla="*/ 2302920 w 2361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5781" h="21600">
                <a:moveTo>
                  <a:pt x="0" y="0"/>
                </a:moveTo>
                <a:lnTo>
                  <a:pt x="55781" y="0"/>
                </a:lnTo>
                <a:lnTo>
                  <a:pt x="55781" y="21600"/>
                </a:lnTo>
                <a:lnTo>
                  <a:pt x="0" y="21600"/>
                </a:lnTo>
                <a:close/>
              </a:path>
              <a:path fill="lightenLess" w="55781" h="21600">
                <a:moveTo>
                  <a:pt x="0" y="0"/>
                </a:moveTo>
                <a:lnTo>
                  <a:pt x="55781" y="0"/>
                </a:lnTo>
                <a:lnTo>
                  <a:pt x="54381" y="1400"/>
                </a:lnTo>
                <a:lnTo>
                  <a:pt x="1400" y="1400"/>
                </a:lnTo>
                <a:close/>
              </a:path>
              <a:path fill="darken" w="55781" h="21600">
                <a:moveTo>
                  <a:pt x="55781" y="0"/>
                </a:moveTo>
                <a:lnTo>
                  <a:pt x="55781" y="21600"/>
                </a:lnTo>
                <a:lnTo>
                  <a:pt x="54381" y="20200"/>
                </a:lnTo>
                <a:lnTo>
                  <a:pt x="54381" y="1400"/>
                </a:lnTo>
                <a:close/>
              </a:path>
              <a:path fill="darkenLess" w="55781" h="21600">
                <a:moveTo>
                  <a:pt x="55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81" y="20200"/>
                </a:lnTo>
                <a:close/>
              </a:path>
              <a:path fill="lighten" w="55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81" h="21600">
                <a:moveTo>
                  <a:pt x="31389" y="10800"/>
                </a:moveTo>
                <a:lnTo>
                  <a:pt x="20884" y="17806"/>
                </a:lnTo>
                <a:lnTo>
                  <a:pt x="20884" y="3794"/>
                </a:lnTo>
                <a:close/>
              </a:path>
              <a:path fill="darken" w="55781" h="21600">
                <a:moveTo>
                  <a:pt x="33235" y="3794"/>
                </a:moveTo>
                <a:lnTo>
                  <a:pt x="33235" y="17806"/>
                </a:lnTo>
                <a:lnTo>
                  <a:pt x="34897" y="17806"/>
                </a:lnTo>
                <a:lnTo>
                  <a:pt x="34897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reached the end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ook forward to hearing from you and working with you again so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AutoShape 4">
            <a:hlinkClick r:id="" action="ppaction://hlinkshowjump?jump=firstslide"/>
          </p:cNvPr>
          <p:cNvSpPr/>
          <p:nvPr/>
        </p:nvSpPr>
        <p:spPr>
          <a:xfrm>
            <a:off x="3429000" y="57913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14659" y="3837"/>
                </a:moveTo>
                <a:lnTo>
                  <a:pt x="17235" y="6448"/>
                </a:lnTo>
                <a:lnTo>
                  <a:pt x="17235" y="4707"/>
                </a:lnTo>
                <a:lnTo>
                  <a:pt x="19011" y="4707"/>
                </a:lnTo>
                <a:lnTo>
                  <a:pt x="19011" y="8224"/>
                </a:lnTo>
                <a:lnTo>
                  <a:pt x="21622" y="10800"/>
                </a:lnTo>
                <a:lnTo>
                  <a:pt x="19968" y="10800"/>
                </a:lnTo>
                <a:lnTo>
                  <a:pt x="19968" y="17989"/>
                </a:lnTo>
                <a:lnTo>
                  <a:pt x="9349" y="17989"/>
                </a:lnTo>
                <a:lnTo>
                  <a:pt x="9349" y="10800"/>
                </a:lnTo>
                <a:lnTo>
                  <a:pt x="7696" y="10800"/>
                </a:lnTo>
                <a:close/>
              </a:path>
              <a:path fill="darkenLess" w="29317" h="21600">
                <a:moveTo>
                  <a:pt x="17235" y="6448"/>
                </a:moveTo>
                <a:lnTo>
                  <a:pt x="17235" y="4707"/>
                </a:lnTo>
                <a:lnTo>
                  <a:pt x="19011" y="4707"/>
                </a:lnTo>
                <a:lnTo>
                  <a:pt x="19011" y="8224"/>
                </a:lnTo>
                <a:close/>
              </a:path>
              <a:path fill="darkenLess" w="29317" h="21600">
                <a:moveTo>
                  <a:pt x="13736" y="14299"/>
                </a:moveTo>
                <a:lnTo>
                  <a:pt x="15581" y="14299"/>
                </a:lnTo>
                <a:lnTo>
                  <a:pt x="15581" y="17989"/>
                </a:lnTo>
                <a:lnTo>
                  <a:pt x="19968" y="17989"/>
                </a:lnTo>
                <a:lnTo>
                  <a:pt x="19968" y="10800"/>
                </a:lnTo>
                <a:lnTo>
                  <a:pt x="9349" y="10800"/>
                </a:lnTo>
                <a:lnTo>
                  <a:pt x="9349" y="17989"/>
                </a:lnTo>
                <a:lnTo>
                  <a:pt x="13736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181480" y="5715000"/>
            <a:ext cx="1905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is one human spine and  four book sp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6" descr="book"/>
          <p:cNvPicPr/>
          <p:nvPr/>
        </p:nvPicPr>
        <p:blipFill>
          <a:blip r:embed="rId1"/>
          <a:stretch/>
        </p:blipFill>
        <p:spPr>
          <a:xfrm>
            <a:off x="5073480" y="1905120"/>
            <a:ext cx="2786400" cy="358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back-2"/>
          <p:cNvPicPr/>
          <p:nvPr/>
        </p:nvPicPr>
        <p:blipFill>
          <a:blip r:embed="rId2"/>
          <a:stretch/>
        </p:blipFill>
        <p:spPr>
          <a:xfrm>
            <a:off x="1415880" y="1828800"/>
            <a:ext cx="2310120" cy="36576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2">
            <a:hlinkClick r:id="" action="ppaction://hlinkshowjump?jump=nextslide"/>
          </p:cNvPr>
          <p:cNvSpPr/>
          <p:nvPr/>
        </p:nvSpPr>
        <p:spPr>
          <a:xfrm>
            <a:off x="3429000" y="5638680"/>
            <a:ext cx="1957320" cy="1219320"/>
          </a:xfrm>
          <a:custGeom>
            <a:avLst/>
            <a:gdLst>
              <a:gd name="textAreaLeft" fmla="*/ 78840 w 1957320"/>
              <a:gd name="textAreaRight" fmla="*/ 1878480 w 19573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4670" h="21600">
                <a:moveTo>
                  <a:pt x="0" y="0"/>
                </a:moveTo>
                <a:lnTo>
                  <a:pt x="34670" y="0"/>
                </a:lnTo>
                <a:lnTo>
                  <a:pt x="34670" y="21600"/>
                </a:lnTo>
                <a:lnTo>
                  <a:pt x="0" y="21600"/>
                </a:lnTo>
                <a:close/>
              </a:path>
              <a:path fill="lightenLess" w="34670" h="21600">
                <a:moveTo>
                  <a:pt x="0" y="0"/>
                </a:moveTo>
                <a:lnTo>
                  <a:pt x="34670" y="0"/>
                </a:lnTo>
                <a:lnTo>
                  <a:pt x="33270" y="1400"/>
                </a:lnTo>
                <a:lnTo>
                  <a:pt x="1400" y="1400"/>
                </a:lnTo>
                <a:close/>
              </a:path>
              <a:path fill="darken" w="34670" h="21600">
                <a:moveTo>
                  <a:pt x="34670" y="0"/>
                </a:moveTo>
                <a:lnTo>
                  <a:pt x="34670" y="21600"/>
                </a:lnTo>
                <a:lnTo>
                  <a:pt x="33270" y="20200"/>
                </a:lnTo>
                <a:lnTo>
                  <a:pt x="33270" y="1400"/>
                </a:lnTo>
                <a:close/>
              </a:path>
              <a:path fill="darkenLess" w="34670" h="21600">
                <a:moveTo>
                  <a:pt x="34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0" y="20200"/>
                </a:lnTo>
                <a:close/>
              </a:path>
              <a:path fill="lighten" w="34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0" h="21600">
                <a:moveTo>
                  <a:pt x="10328" y="3794"/>
                </a:moveTo>
                <a:lnTo>
                  <a:pt x="24341" y="10800"/>
                </a:lnTo>
                <a:lnTo>
                  <a:pt x="10328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pine is on the front of the bo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n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usually a spine in picture books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_x000b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pine is the part that shows when the book is on the shel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pine can be where ever the librarian wants it to 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part of the book is the spin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0">
            <a:hlinkClick r:id="rId3" action="ppaction://hlinksldjump"/>
          </p:cNvPr>
          <p:cNvSpPr/>
          <p:nvPr/>
        </p:nvSpPr>
        <p:spPr>
          <a:xfrm>
            <a:off x="1066680" y="2514600"/>
            <a:ext cx="3200400" cy="685800"/>
          </a:xfrm>
          <a:custGeom>
            <a:avLst/>
            <a:gdLst>
              <a:gd name="textAreaLeft" fmla="*/ 44280 w 3200400"/>
              <a:gd name="textAreaRight" fmla="*/ 3156120 w 3200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0758" h="21600">
                <a:moveTo>
                  <a:pt x="0" y="0"/>
                </a:moveTo>
                <a:lnTo>
                  <a:pt x="100758" y="0"/>
                </a:lnTo>
                <a:lnTo>
                  <a:pt x="100758" y="21600"/>
                </a:lnTo>
                <a:lnTo>
                  <a:pt x="0" y="21600"/>
                </a:lnTo>
                <a:close/>
              </a:path>
              <a:path fill="lightenLess" w="100758" h="21600">
                <a:moveTo>
                  <a:pt x="0" y="0"/>
                </a:moveTo>
                <a:lnTo>
                  <a:pt x="100758" y="0"/>
                </a:lnTo>
                <a:lnTo>
                  <a:pt x="99359" y="1400"/>
                </a:lnTo>
                <a:lnTo>
                  <a:pt x="1400" y="1400"/>
                </a:lnTo>
                <a:close/>
              </a:path>
              <a:path fill="darken" w="100758" h="21600">
                <a:moveTo>
                  <a:pt x="100758" y="0"/>
                </a:moveTo>
                <a:lnTo>
                  <a:pt x="100758" y="21600"/>
                </a:lnTo>
                <a:lnTo>
                  <a:pt x="99359" y="20200"/>
                </a:lnTo>
                <a:lnTo>
                  <a:pt x="99359" y="1400"/>
                </a:lnTo>
                <a:close/>
              </a:path>
              <a:path fill="darkenLess" w="100758" h="21600">
                <a:moveTo>
                  <a:pt x="10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59" y="20200"/>
                </a:lnTo>
                <a:close/>
              </a:path>
              <a:path fill="lighten" w="10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AutoShape 11">
            <a:hlinkClick r:id="rId4" action="ppaction://hlinksldjump"/>
          </p:cNvPr>
          <p:cNvSpPr/>
          <p:nvPr/>
        </p:nvSpPr>
        <p:spPr>
          <a:xfrm>
            <a:off x="990720" y="1752480"/>
            <a:ext cx="3200400" cy="685800"/>
          </a:xfrm>
          <a:custGeom>
            <a:avLst/>
            <a:gdLst>
              <a:gd name="textAreaLeft" fmla="*/ 44280 w 3200400"/>
              <a:gd name="textAreaRight" fmla="*/ 3156120 w 3200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00758" h="21600">
                <a:moveTo>
                  <a:pt x="0" y="0"/>
                </a:moveTo>
                <a:lnTo>
                  <a:pt x="100758" y="0"/>
                </a:lnTo>
                <a:lnTo>
                  <a:pt x="100758" y="21600"/>
                </a:lnTo>
                <a:lnTo>
                  <a:pt x="0" y="21600"/>
                </a:lnTo>
                <a:close/>
              </a:path>
              <a:path fill="lightenLess" w="100758" h="21600">
                <a:moveTo>
                  <a:pt x="0" y="0"/>
                </a:moveTo>
                <a:lnTo>
                  <a:pt x="100758" y="0"/>
                </a:lnTo>
                <a:lnTo>
                  <a:pt x="99359" y="1400"/>
                </a:lnTo>
                <a:lnTo>
                  <a:pt x="1400" y="1400"/>
                </a:lnTo>
                <a:close/>
              </a:path>
              <a:path fill="darken" w="100758" h="21600">
                <a:moveTo>
                  <a:pt x="100758" y="0"/>
                </a:moveTo>
                <a:lnTo>
                  <a:pt x="100758" y="21600"/>
                </a:lnTo>
                <a:lnTo>
                  <a:pt x="99359" y="20200"/>
                </a:lnTo>
                <a:lnTo>
                  <a:pt x="99359" y="1400"/>
                </a:lnTo>
                <a:close/>
              </a:path>
              <a:path fill="darkenLess" w="100758" h="21600">
                <a:moveTo>
                  <a:pt x="10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59" y="20200"/>
                </a:lnTo>
                <a:close/>
              </a:path>
              <a:path fill="lighten" w="10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AutoShape 12">
            <a:hlinkClick r:id="rId5" action="ppaction://hlinksldjump"/>
          </p:cNvPr>
          <p:cNvSpPr/>
          <p:nvPr/>
        </p:nvSpPr>
        <p:spPr>
          <a:xfrm>
            <a:off x="990720" y="320040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13">
            <a:hlinkClick r:id="rId6" action="ppaction://hlinksldjump"/>
          </p:cNvPr>
          <p:cNvSpPr/>
          <p:nvPr/>
        </p:nvSpPr>
        <p:spPr>
          <a:xfrm>
            <a:off x="990720" y="4267080"/>
            <a:ext cx="3352680" cy="1143000"/>
          </a:xfrm>
          <a:custGeom>
            <a:avLst/>
            <a:gdLst>
              <a:gd name="textAreaLeft" fmla="*/ 73800 w 3352680"/>
              <a:gd name="textAreaRight" fmla="*/ 3278880 w 3352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45" h="21600">
                <a:moveTo>
                  <a:pt x="0" y="0"/>
                </a:moveTo>
                <a:lnTo>
                  <a:pt x="63345" y="0"/>
                </a:lnTo>
                <a:lnTo>
                  <a:pt x="63345" y="21600"/>
                </a:lnTo>
                <a:lnTo>
                  <a:pt x="0" y="21600"/>
                </a:lnTo>
                <a:close/>
              </a:path>
              <a:path fill="lightenLess" w="63345" h="21600">
                <a:moveTo>
                  <a:pt x="0" y="0"/>
                </a:moveTo>
                <a:lnTo>
                  <a:pt x="63345" y="0"/>
                </a:lnTo>
                <a:lnTo>
                  <a:pt x="61945" y="1400"/>
                </a:lnTo>
                <a:lnTo>
                  <a:pt x="1400" y="1400"/>
                </a:lnTo>
                <a:close/>
              </a:path>
              <a:path fill="darken" w="63345" h="21600">
                <a:moveTo>
                  <a:pt x="63345" y="0"/>
                </a:moveTo>
                <a:lnTo>
                  <a:pt x="63345" y="21600"/>
                </a:lnTo>
                <a:lnTo>
                  <a:pt x="61945" y="20200"/>
                </a:lnTo>
                <a:lnTo>
                  <a:pt x="61945" y="1400"/>
                </a:lnTo>
                <a:close/>
              </a:path>
              <a:path fill="darkenLess" w="63345" h="21600">
                <a:moveTo>
                  <a:pt x="63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45" y="20200"/>
                </a:lnTo>
                <a:close/>
              </a:path>
              <a:path fill="lighten" w="63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14">
            <a:hlinkClick r:id="rId7" action="ppaction://hlinksldjump"/>
          </p:cNvPr>
          <p:cNvSpPr/>
          <p:nvPr/>
        </p:nvSpPr>
        <p:spPr>
          <a:xfrm>
            <a:off x="1295280" y="3581280"/>
            <a:ext cx="3353040" cy="1143000"/>
          </a:xfrm>
          <a:custGeom>
            <a:avLst/>
            <a:gdLst>
              <a:gd name="textAreaLeft" fmla="*/ 73800 w 3353040"/>
              <a:gd name="textAreaRight" fmla="*/ 3279240 w 33530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63351" h="21600">
                <a:moveTo>
                  <a:pt x="0" y="0"/>
                </a:moveTo>
                <a:lnTo>
                  <a:pt x="63351" y="0"/>
                </a:lnTo>
                <a:lnTo>
                  <a:pt x="63351" y="21600"/>
                </a:lnTo>
                <a:lnTo>
                  <a:pt x="0" y="21600"/>
                </a:lnTo>
                <a:close/>
              </a:path>
              <a:path fill="lightenLess" w="63351" h="21600">
                <a:moveTo>
                  <a:pt x="0" y="0"/>
                </a:moveTo>
                <a:lnTo>
                  <a:pt x="63351" y="0"/>
                </a:lnTo>
                <a:lnTo>
                  <a:pt x="61951" y="1400"/>
                </a:lnTo>
                <a:lnTo>
                  <a:pt x="1400" y="1400"/>
                </a:lnTo>
                <a:close/>
              </a:path>
              <a:path fill="darken" w="63351" h="21600">
                <a:moveTo>
                  <a:pt x="63351" y="0"/>
                </a:moveTo>
                <a:lnTo>
                  <a:pt x="63351" y="21600"/>
                </a:lnTo>
                <a:lnTo>
                  <a:pt x="61951" y="20200"/>
                </a:lnTo>
                <a:lnTo>
                  <a:pt x="61951" y="1400"/>
                </a:lnTo>
                <a:close/>
              </a:path>
              <a:path fill="darkenLess" w="63351" h="21600">
                <a:moveTo>
                  <a:pt x="63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951" y="20200"/>
                </a:lnTo>
                <a:close/>
              </a:path>
              <a:path fill="lighten" w="63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AutoShape 15">
            <a:hlinkClick r:id="" action="ppaction://hlinkshowjump?jump=nextslide"/>
          </p:cNvPr>
          <p:cNvSpPr/>
          <p:nvPr/>
        </p:nvSpPr>
        <p:spPr>
          <a:xfrm>
            <a:off x="3581280" y="5791320"/>
            <a:ext cx="1676520" cy="76176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7526" h="21600">
                <a:moveTo>
                  <a:pt x="0" y="0"/>
                </a:moveTo>
                <a:lnTo>
                  <a:pt x="47526" y="0"/>
                </a:lnTo>
                <a:lnTo>
                  <a:pt x="47526" y="21600"/>
                </a:lnTo>
                <a:lnTo>
                  <a:pt x="0" y="21600"/>
                </a:lnTo>
                <a:close/>
              </a:path>
              <a:path fill="lightenLess" w="47526" h="21600">
                <a:moveTo>
                  <a:pt x="0" y="0"/>
                </a:moveTo>
                <a:lnTo>
                  <a:pt x="47526" y="0"/>
                </a:lnTo>
                <a:lnTo>
                  <a:pt x="46126" y="1400"/>
                </a:lnTo>
                <a:lnTo>
                  <a:pt x="1400" y="1400"/>
                </a:lnTo>
                <a:close/>
              </a:path>
              <a:path fill="darken" w="47526" h="21600">
                <a:moveTo>
                  <a:pt x="47526" y="0"/>
                </a:moveTo>
                <a:lnTo>
                  <a:pt x="47526" y="21600"/>
                </a:lnTo>
                <a:lnTo>
                  <a:pt x="46126" y="20200"/>
                </a:lnTo>
                <a:lnTo>
                  <a:pt x="46126" y="1400"/>
                </a:lnTo>
                <a:close/>
              </a:path>
              <a:path fill="darkenLess" w="47526" h="21600">
                <a:moveTo>
                  <a:pt x="47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6" y="20200"/>
                </a:lnTo>
                <a:close/>
              </a:path>
              <a:path fill="lighten" w="47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6" h="21600">
                <a:moveTo>
                  <a:pt x="16757" y="3794"/>
                </a:moveTo>
                <a:lnTo>
                  <a:pt x="30770" y="10800"/>
                </a:lnTo>
                <a:lnTo>
                  <a:pt x="1675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ops!  Read this again and then answer the ques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ine of a book is the part that you see when the book is on the shelf, and other books are alongside your boo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809880" y="5410080"/>
            <a:ext cx="2133720" cy="1043280"/>
          </a:xfrm>
          <a:custGeom>
            <a:avLst/>
            <a:gdLst>
              <a:gd name="textAreaLeft" fmla="*/ 67320 w 2133720"/>
              <a:gd name="textAreaRight" fmla="*/ 2066400 w 21337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44169" h="21600">
                <a:moveTo>
                  <a:pt x="0" y="0"/>
                </a:moveTo>
                <a:lnTo>
                  <a:pt x="44169" y="0"/>
                </a:lnTo>
                <a:lnTo>
                  <a:pt x="44169" y="21600"/>
                </a:lnTo>
                <a:lnTo>
                  <a:pt x="0" y="21600"/>
                </a:lnTo>
                <a:close/>
              </a:path>
              <a:path fill="lightenLess" w="44169" h="21600">
                <a:moveTo>
                  <a:pt x="0" y="0"/>
                </a:moveTo>
                <a:lnTo>
                  <a:pt x="44169" y="0"/>
                </a:lnTo>
                <a:lnTo>
                  <a:pt x="42769" y="1400"/>
                </a:lnTo>
                <a:lnTo>
                  <a:pt x="1400" y="1400"/>
                </a:lnTo>
                <a:close/>
              </a:path>
              <a:path fill="darken" w="44169" h="21600">
                <a:moveTo>
                  <a:pt x="44169" y="0"/>
                </a:moveTo>
                <a:lnTo>
                  <a:pt x="44169" y="21600"/>
                </a:lnTo>
                <a:lnTo>
                  <a:pt x="42769" y="20200"/>
                </a:lnTo>
                <a:lnTo>
                  <a:pt x="42769" y="1400"/>
                </a:lnTo>
                <a:close/>
              </a:path>
              <a:path fill="darkenLess" w="44169" h="21600">
                <a:moveTo>
                  <a:pt x="44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69" y="20200"/>
                </a:lnTo>
                <a:close/>
              </a:path>
              <a:path fill="lighten" w="44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 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aga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8C1EF6B9.WAV" descr=""/>
          <p:cNvPicPr/>
          <p:nvPr/>
        </p:nvPicPr>
        <p:blipFill>
          <a:blip r:embed="rId1"/>
          <a:stretch/>
        </p:blipFill>
        <p:spPr>
          <a:xfrm>
            <a:off x="1295280" y="4952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ip! Hip! Hurray!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3" descr="b0705"/>
          <p:cNvPicPr/>
          <p:nvPr/>
        </p:nvPicPr>
        <p:blipFill>
          <a:blip r:embed="rId2"/>
          <a:stretch/>
        </p:blipFill>
        <p:spPr>
          <a:xfrm>
            <a:off x="934920" y="1828800"/>
            <a:ext cx="3273480" cy="365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005000"/>
                </a:solidFill>
                <a:latin typeface="Comic Sans MS"/>
              </a:rPr>
              <a:t>You are</a:t>
            </a:r>
            <a:br>
              <a:rPr sz="4400"/>
            </a:br>
            <a:r>
              <a:rPr b="0" lang="en-US" sz="4400" spc="-1" strike="noStrike">
                <a:solidFill>
                  <a:srgbClr val="005000"/>
                </a:solidFill>
                <a:latin typeface="Comic Sans MS"/>
              </a:rPr>
              <a:t>correc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xcellen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9">
            <a:hlinkClick r:id="" action="ppaction://hlinkshowjump?jump=nextslide"/>
          </p:cNvPr>
          <p:cNvSpPr/>
          <p:nvPr/>
        </p:nvSpPr>
        <p:spPr>
          <a:xfrm>
            <a:off x="3733920" y="5638680"/>
            <a:ext cx="1523880" cy="838440"/>
          </a:xfrm>
          <a:custGeom>
            <a:avLst/>
            <a:gdLst>
              <a:gd name="textAreaLeft" fmla="*/ 54360 w 1523880"/>
              <a:gd name="textAreaRight" fmla="*/ 1469520 w 15238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9251" h="21600">
                <a:moveTo>
                  <a:pt x="0" y="0"/>
                </a:moveTo>
                <a:lnTo>
                  <a:pt x="39251" y="0"/>
                </a:lnTo>
                <a:lnTo>
                  <a:pt x="39251" y="21600"/>
                </a:lnTo>
                <a:lnTo>
                  <a:pt x="0" y="21600"/>
                </a:lnTo>
                <a:close/>
              </a:path>
              <a:path fill="lightenLess" w="39251" h="21600">
                <a:moveTo>
                  <a:pt x="0" y="0"/>
                </a:moveTo>
                <a:lnTo>
                  <a:pt x="39251" y="0"/>
                </a:lnTo>
                <a:lnTo>
                  <a:pt x="37851" y="1400"/>
                </a:lnTo>
                <a:lnTo>
                  <a:pt x="1400" y="1400"/>
                </a:lnTo>
                <a:close/>
              </a:path>
              <a:path fill="darken" w="39251" h="21600">
                <a:moveTo>
                  <a:pt x="39251" y="0"/>
                </a:moveTo>
                <a:lnTo>
                  <a:pt x="39251" y="21600"/>
                </a:lnTo>
                <a:lnTo>
                  <a:pt x="37851" y="20200"/>
                </a:lnTo>
                <a:lnTo>
                  <a:pt x="37851" y="1400"/>
                </a:lnTo>
                <a:close/>
              </a:path>
              <a:path fill="darkenLess" w="39251" h="21600">
                <a:moveTo>
                  <a:pt x="39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1" y="20200"/>
                </a:lnTo>
                <a:close/>
              </a:path>
              <a:path fill="lighten" w="39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51" h="21600">
                <a:moveTo>
                  <a:pt x="12619" y="3794"/>
                </a:moveTo>
                <a:lnTo>
                  <a:pt x="26632" y="10800"/>
                </a:lnTo>
                <a:lnTo>
                  <a:pt x="1261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3:30:38Z</dcterms:created>
  <dc:creator>claudette curl</dc:creator>
  <dc:description/>
  <dc:language>en-US</dc:language>
  <cp:lastModifiedBy>Vicky Richardson</cp:lastModifiedBy>
  <dcterms:modified xsi:type="dcterms:W3CDTF">2014-05-07T19:30:55Z</dcterms:modified>
  <cp:revision>114</cp:revision>
  <dc:subject/>
  <dc:title>Slide 1</dc:title>
</cp:coreProperties>
</file>